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0031-71DA-4D50-90DC-CC496D816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7F35-E955-4F4C-9D0E-C54069FFF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604E-2EA5-4DB9-BF30-387FD7229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5284-2E9A-4481-A379-6FBA04BF2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55C5-1835-4EAA-860A-75A0A1C5F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F95F-D559-4028-BBFE-6429FA0DE7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FFBB-1295-43DE-96F9-17A404140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B4CC-D412-409C-850C-6AF172606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86D9-82E2-4AB1-AE2E-F5B8C9E72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70B6-C6E0-46B4-90DA-68D416BD4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9551-8290-4D1D-8A5E-E32750CB9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C373-4DBD-4340-A2F0-FE3C5CB048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11F3-8AF6-4457-A1CA-A2725B98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07A1-6DF6-4970-BCA0-4D9E6184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4B1-4394-42D4-9E18-3A246231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7793-99CE-4CBF-B0E5-7E811B83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BE60-A86C-49E8-B8F0-BB14DC24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B51D-A924-4E32-8D81-48BCC311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4F18-C7F8-4809-94CD-AC44B431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1E4-14B4-4D5D-92D8-111245E3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DB8F-61F5-4DF1-BA77-46169843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F51A-3637-4A73-AFAC-087AB55F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BC7A-FF8D-46D6-9DAD-D7D057EF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853E-A016-4A70-B49B-117E6FA4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1701-30A1-40E1-9267-79F43B30D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Quest for Revit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Jarppa Luutini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(Ste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1928880" y="5143680"/>
            <a:ext cx="5072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nother product from the name you trus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5991480" cy="264312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8" name="TextBox 3"/>
          <p:cNvSpPr/>
          <p:nvPr/>
        </p:nvSpPr>
        <p:spPr>
          <a:xfrm>
            <a:off x="3429000" y="4143240"/>
            <a:ext cx="492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7933c"/>
                </a:solidFill>
                <a:latin typeface="Calibri"/>
              </a:rPr>
              <a:t>FINNISH HUMMER IN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8760" y="50004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571760" y="3429000"/>
            <a:ext cx="3886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ENERGY DRI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3902040" y="1920240"/>
            <a:ext cx="3768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ff"/>
                </a:solidFill>
                <a:latin typeface="Calibri"/>
              </a:rPr>
              <a:t>S U O M I       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214280" y="2714760"/>
            <a:ext cx="34290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9999"/>
                </a:solidFill>
                <a:latin typeface="Calibri"/>
                <a:ea typeface="Times New Roman"/>
              </a:rPr>
              <a:t>S U O M I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1357200" y="13572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6"/>
          <p:cNvSpPr/>
          <p:nvPr/>
        </p:nvSpPr>
        <p:spPr>
          <a:xfrm>
            <a:off x="2714760" y="60721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3780000" y="2326680"/>
            <a:ext cx="122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ff"/>
                </a:solidFill>
                <a:latin typeface="Calibri"/>
              </a:rPr>
              <a:t>F Y       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1573200" y="15732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5724360" y="50133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5"/>
          <p:cNvSpPr/>
          <p:nvPr/>
        </p:nvSpPr>
        <p:spPr>
          <a:xfrm>
            <a:off x="5940360" y="52293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6156360" y="54450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da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time, Man h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arch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ANSW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sw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2571840" y="37861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ell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143000" y="47149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571840" y="37861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143000" y="47149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500200" y="3786120"/>
            <a:ext cx="25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a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143000" y="47149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2500200" y="3786120"/>
            <a:ext cx="25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143000" y="47149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a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ANSW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ing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28760" y="50004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40" indent="1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572080" y="571680"/>
            <a:ext cx="2514600" cy="5790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5857920" y="2643120"/>
            <a:ext cx="1895400" cy="2714760"/>
          </a:xfrm>
          <a:prstGeom prst="rect">
            <a:avLst/>
          </a:prstGeom>
          <a:ln cap="sq" w="381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8" name="Text Box 8"/>
          <p:cNvSpPr/>
          <p:nvPr/>
        </p:nvSpPr>
        <p:spPr>
          <a:xfrm>
            <a:off x="1571760" y="3429000"/>
            <a:ext cx="3886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alibri"/>
              </a:rPr>
              <a:t>ENERGY DRI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3902040" y="1920240"/>
            <a:ext cx="3768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66ff"/>
                </a:solidFill>
                <a:latin typeface="Calibri"/>
              </a:rPr>
              <a:t>S U O M I       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1214280" y="2714760"/>
            <a:ext cx="34290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9999"/>
                </a:solidFill>
                <a:latin typeface="Calibri"/>
                <a:ea typeface="Times New Roman"/>
              </a:rPr>
              <a:t>S U O M I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928800" y="485784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W AVAILABLE WHEREVER FINE BEVERAGES ARE SO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1643040" y="54291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D WAL-M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1357200" y="13572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6"/>
          <p:cNvSpPr/>
          <p:nvPr/>
        </p:nvSpPr>
        <p:spPr>
          <a:xfrm>
            <a:off x="2714760" y="60721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…</a:t>
            </a:r>
            <a:r>
              <a:rPr b="0" lang="en-US" sz="1800" spc="-1" strike="noStrike">
                <a:solidFill>
                  <a:srgbClr val="93cddd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5:12:13Z</dcterms:created>
  <dc:creator>sbrasier</dc:creator>
  <dc:description/>
  <dc:language>en-US</dc:language>
  <cp:lastModifiedBy>Administrator</cp:lastModifiedBy>
  <dcterms:modified xsi:type="dcterms:W3CDTF">2009-02-26T19:19:57Z</dcterms:modified>
  <cp:revision>45</cp:revision>
  <dc:subject/>
  <dc:title>The Quest for Revitalization</dc:title>
</cp:coreProperties>
</file>