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3A76-A816-44AE-B6A6-01C93FEC2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75B1-7F1A-4B8E-B7A0-1714CE126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6D9D-4046-47EB-9964-576EBB37B4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A652-1B7D-47C8-8C67-F2F301DF6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246F-22F4-422E-93A4-2DB55B409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A49B-9F8C-43D4-862C-EA0E5769B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AE7B-DA85-4B87-B216-CB0E767E4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6019-847D-40DB-B601-8C7A5C8EC6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2F15-0FA2-4665-B1B9-BBF4DE442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92FF-404E-4C97-8F23-1F56D28FF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0B7A-7C3B-49D2-A0AC-114C4B1E7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DBCE-9941-4AA3-8737-B36A99054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5DD-7673-409D-A61A-3772580B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CA26-657E-48A8-83B0-32A04A0F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AC62-CFCB-495A-92F6-ADB7162F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DC6-1BE2-4975-B9EE-ECB87719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DBCB-1B27-4200-B20E-BC4B19FC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7E27-178E-4890-996B-BF458AA0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4B22-1E04-423C-9722-8CE8D4DD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F409-02B6-4F08-983C-EAB9BC34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7BBE-D85D-4923-B176-D7306EA2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6C77-B7CF-4B10-B0DB-ECAAAE05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360A-AEE3-4CB4-83D0-4A618569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9B39-DCC6-4D87-8FF3-84CBA43E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86CA-4521-4108-8B9A-6671B184B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Quest for Revit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Jarppa Luutini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(Ste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1928880" y="5143680"/>
            <a:ext cx="5072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nother product from the name you trus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5991480" cy="264312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8" name="TextBox 3"/>
          <p:cNvSpPr/>
          <p:nvPr/>
        </p:nvSpPr>
        <p:spPr>
          <a:xfrm>
            <a:off x="3429000" y="4143240"/>
            <a:ext cx="492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933c"/>
                </a:solidFill>
                <a:latin typeface="Calibri"/>
              </a:rPr>
              <a:t>FINNISH HUMMER IN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8760" y="50004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571760" y="3429000"/>
            <a:ext cx="3886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ENERGY DRI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3902040" y="1920240"/>
            <a:ext cx="3768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ff"/>
                </a:solidFill>
                <a:latin typeface="Calibri"/>
              </a:rPr>
              <a:t>S U O M I       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214280" y="2714760"/>
            <a:ext cx="34290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9999"/>
                </a:solidFill>
                <a:latin typeface="Calibri"/>
                <a:ea typeface="Times New Roman"/>
              </a:rPr>
              <a:t>S U O M I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1357200" y="13572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6"/>
          <p:cNvSpPr/>
          <p:nvPr/>
        </p:nvSpPr>
        <p:spPr>
          <a:xfrm>
            <a:off x="2714760" y="60721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3780000" y="2326680"/>
            <a:ext cx="122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ff"/>
                </a:solidFill>
                <a:latin typeface="Calibri"/>
              </a:rPr>
              <a:t>F Y       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1573200" y="15732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5724360" y="50133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5"/>
          <p:cNvSpPr/>
          <p:nvPr/>
        </p:nvSpPr>
        <p:spPr>
          <a:xfrm>
            <a:off x="5940360" y="52293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6156360" y="54450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da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ime, Man h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arch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ANSW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2571840" y="37861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ell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143000" y="47149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571840" y="37861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143000" y="47149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500200" y="3786120"/>
            <a:ext cx="25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a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143000" y="47149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2500200" y="3786120"/>
            <a:ext cx="25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143000" y="47149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a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ANSW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ing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28760" y="50004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572080" y="571680"/>
            <a:ext cx="2514600" cy="5790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5857920" y="2643120"/>
            <a:ext cx="1895400" cy="2714760"/>
          </a:xfrm>
          <a:prstGeom prst="rect">
            <a:avLst/>
          </a:prstGeom>
          <a:ln cap="sq" w="381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8" name="Text Box 8"/>
          <p:cNvSpPr/>
          <p:nvPr/>
        </p:nvSpPr>
        <p:spPr>
          <a:xfrm>
            <a:off x="1571760" y="3429000"/>
            <a:ext cx="3886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ENERGY DRI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3902040" y="1920240"/>
            <a:ext cx="3768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ff"/>
                </a:solidFill>
                <a:latin typeface="Calibri"/>
              </a:rPr>
              <a:t>S U O M I       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214280" y="2714760"/>
            <a:ext cx="34290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9999"/>
                </a:solidFill>
                <a:latin typeface="Calibri"/>
                <a:ea typeface="Times New Roman"/>
              </a:rPr>
              <a:t>S U O M I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928800" y="485784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W AVAILABLE WHEREVER FINE BEVERAGES ARE SO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1643040" y="54291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D WAL-M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1357200" y="13572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6"/>
          <p:cNvSpPr/>
          <p:nvPr/>
        </p:nvSpPr>
        <p:spPr>
          <a:xfrm>
            <a:off x="2714760" y="60721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5:12:13Z</dcterms:created>
  <dc:creator>sbrasier</dc:creator>
  <dc:description/>
  <dc:language>en-US</dc:language>
  <cp:lastModifiedBy>Administrator</cp:lastModifiedBy>
  <dcterms:modified xsi:type="dcterms:W3CDTF">2009-02-26T19:19:57Z</dcterms:modified>
  <cp:revision>45</cp:revision>
  <dc:subject/>
  <dc:title>The Quest for Revitalization</dc:title>
</cp:coreProperties>
</file>