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4DDD-B6B3-4249-9FE3-487A213B5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EC55-30C2-4013-AC84-727F1A0F7B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2FBE-2EE5-448C-AD6C-D1AF9AFE83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4EBB-28D0-4DEF-A457-7A178C316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0421-F442-4078-B905-959B3C564A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C531-9763-48A8-90CE-7C7A97BB8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2D94-DD90-449A-8A62-C625F6117B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720C-B552-4936-A49B-D2936DDC7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ED67-CC9D-41A0-9BAC-A18E0F3B6E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C6BF-7D59-4A14-AC16-30B7692BBF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A83B-695B-429F-B7BC-304B5E73B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1B4A-C30B-436C-A136-C3E97DE7D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A7EF-5232-49A9-A2FB-E68E61C3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09CA-1646-4208-AB2E-7011F707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DE9-E703-4F86-84DA-667FA0A0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D9CC-74B0-432E-A1B1-1447EFB0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C376-31C8-4B98-9428-0D6D083E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EAAE-E8E6-4516-AC00-DED9B0D8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9C64-A644-4065-9DAE-5A5EB995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E36D-9BA1-4646-9E0D-5326EFEA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1B63-3824-4062-AA2B-FAFB50A4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AA7-59B4-4F89-8A3C-81A8D564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1E30-BFC1-4E72-B42C-21A2CD78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1240-EE0A-4E5E-8D25-75D6F306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2CE8-D919-4F78-ADA9-267AC8911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Quest for Revit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Jarppa Luutini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(Ste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1928880" y="5143680"/>
            <a:ext cx="5072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nother product from the name you trus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5991480" cy="264312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8" name="TextBox 3"/>
          <p:cNvSpPr/>
          <p:nvPr/>
        </p:nvSpPr>
        <p:spPr>
          <a:xfrm>
            <a:off x="3429000" y="4143240"/>
            <a:ext cx="492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933c"/>
                </a:solidFill>
                <a:latin typeface="Calibri"/>
              </a:rPr>
              <a:t>FINNISH HUMMER IN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28760" y="50004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571760" y="3429000"/>
            <a:ext cx="3886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ENERGY DRI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3902040" y="1920240"/>
            <a:ext cx="3768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66ff"/>
                </a:solidFill>
                <a:latin typeface="Calibri"/>
              </a:rPr>
              <a:t>S U O M I       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214280" y="2714760"/>
            <a:ext cx="34290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9999"/>
                </a:solidFill>
                <a:latin typeface="Calibri"/>
                <a:ea typeface="Times New Roman"/>
              </a:rPr>
              <a:t>S U O M I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1357200" y="13572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6"/>
          <p:cNvSpPr/>
          <p:nvPr/>
        </p:nvSpPr>
        <p:spPr>
          <a:xfrm>
            <a:off x="2714760" y="60721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3780000" y="2326680"/>
            <a:ext cx="122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66ff"/>
                </a:solidFill>
                <a:latin typeface="Calibri"/>
              </a:rPr>
              <a:t>F Y       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1573200" y="15732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5724360" y="50133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5"/>
          <p:cNvSpPr/>
          <p:nvPr/>
        </p:nvSpPr>
        <p:spPr>
          <a:xfrm>
            <a:off x="5940360" y="52293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6156360" y="54450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 da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time, Man h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arche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ANSW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2571840" y="378612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ell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143000" y="47149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571840" y="378612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143000" y="47149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500200" y="3786120"/>
            <a:ext cx="25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a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143000" y="47149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2500200" y="3786120"/>
            <a:ext cx="25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143000" y="47149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a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ANSW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ing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28760" y="50004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572080" y="571680"/>
            <a:ext cx="2514600" cy="5790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5857920" y="2643120"/>
            <a:ext cx="1895400" cy="2714760"/>
          </a:xfrm>
          <a:prstGeom prst="rect">
            <a:avLst/>
          </a:prstGeom>
          <a:ln cap="sq" w="38160">
            <a:solidFill>
              <a:srgbClr val="95373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8" name="Text Box 8"/>
          <p:cNvSpPr/>
          <p:nvPr/>
        </p:nvSpPr>
        <p:spPr>
          <a:xfrm>
            <a:off x="1571760" y="3429000"/>
            <a:ext cx="3886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ENERGY DRI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3902040" y="1920240"/>
            <a:ext cx="3768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66ff"/>
                </a:solidFill>
                <a:latin typeface="Calibri"/>
              </a:rPr>
              <a:t>S U O M I       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1214280" y="2714760"/>
            <a:ext cx="34290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9999"/>
                </a:solidFill>
                <a:latin typeface="Calibri"/>
                <a:ea typeface="Times New Roman"/>
              </a:rPr>
              <a:t>S U O M I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928800" y="485784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W AVAILABLE WHEREVER FINE BEVERAGES ARE SO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1643040" y="54291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ND WAL-M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5"/>
          <p:cNvSpPr/>
          <p:nvPr/>
        </p:nvSpPr>
        <p:spPr>
          <a:xfrm>
            <a:off x="1357200" y="13572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6"/>
          <p:cNvSpPr/>
          <p:nvPr/>
        </p:nvSpPr>
        <p:spPr>
          <a:xfrm>
            <a:off x="2714760" y="60721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5:12:13Z</dcterms:created>
  <dc:creator>sbrasier</dc:creator>
  <dc:description/>
  <dc:language>en-US</dc:language>
  <cp:lastModifiedBy>Administrator</cp:lastModifiedBy>
  <dcterms:modified xsi:type="dcterms:W3CDTF">2009-02-26T19:19:57Z</dcterms:modified>
  <cp:revision>45</cp:revision>
  <dc:subject/>
  <dc:title>The Quest for Revitalization</dc:title>
</cp:coreProperties>
</file>