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51C6-F471-480E-872C-0BB82ADF90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4AA5-77FB-47DF-8E50-ED395C76C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7F71-9518-4314-B2F9-F39A7A6B2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D135-8F75-472C-847D-86A0F37D9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F8AA-747A-4B64-B2F9-A47FB862C5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ADFF-2FF0-4796-9E1F-585AA07DD0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BD41-6040-4FC4-A183-18AE10CC9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BC57-23C4-4CDC-8AF6-7305790818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4AD8-DC90-48A7-BC82-4CEFC6262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EFF8-BE50-4BE4-9036-2835AAB84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177A-1D65-4683-8D9E-6153AFB8B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FD09-4612-4B30-A1AF-3955A8C97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B660-88D2-4B56-94B3-8D21D4DE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F15A-D6CE-42D2-BB94-0E2692E7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B46F-15E3-465C-BC13-1109ECA3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F0D1-FEC5-404B-904F-D64C42D1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90F1-EDB0-4193-B9FF-54C2F227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2274-66AD-4C6F-9816-173612EA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9DF9-6D4F-4E40-A784-781A6620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12BC-8D58-414D-8905-813F3BF4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1A05-9B21-463B-B379-E9497643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8735-ACC3-4F37-9F1F-A8219277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289C-CA31-4CF4-8DE3-D66C5CA5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3A58-C3B6-49C7-8D39-BFC52CE5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89AD-B032-4AD4-A96C-E9DF863AA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Quest for Revit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Jarppa Luutini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(Ste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1928880" y="5143680"/>
            <a:ext cx="5072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nother product from the name you trus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5991480" cy="264312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8" name="TextBox 3"/>
          <p:cNvSpPr/>
          <p:nvPr/>
        </p:nvSpPr>
        <p:spPr>
          <a:xfrm>
            <a:off x="3429000" y="4143240"/>
            <a:ext cx="492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933c"/>
                </a:solidFill>
                <a:latin typeface="Calibri"/>
              </a:rPr>
              <a:t>FINNISH HUMMER IN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28760" y="50004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571760" y="3429000"/>
            <a:ext cx="3886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ENERGY DRI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3902040" y="1920240"/>
            <a:ext cx="3768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66ff"/>
                </a:solidFill>
                <a:latin typeface="Calibri"/>
              </a:rPr>
              <a:t>S U O M I       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214280" y="2714760"/>
            <a:ext cx="34290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9999"/>
                </a:solidFill>
                <a:latin typeface="Calibri"/>
                <a:ea typeface="Times New Roman"/>
              </a:rPr>
              <a:t>S U O M I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1357200" y="13572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6"/>
          <p:cNvSpPr/>
          <p:nvPr/>
        </p:nvSpPr>
        <p:spPr>
          <a:xfrm>
            <a:off x="2714760" y="60721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3780000" y="2326680"/>
            <a:ext cx="122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66ff"/>
                </a:solidFill>
                <a:latin typeface="Calibri"/>
              </a:rPr>
              <a:t>F Y       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1573200" y="15732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5724360" y="50133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5"/>
          <p:cNvSpPr/>
          <p:nvPr/>
        </p:nvSpPr>
        <p:spPr>
          <a:xfrm>
            <a:off x="5940360" y="52293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6156360" y="54450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 da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time, Man h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arche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ANSW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2571840" y="378612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ell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143000" y="47149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571840" y="378612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143000" y="47149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500200" y="3786120"/>
            <a:ext cx="25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a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143000" y="47149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2500200" y="3786120"/>
            <a:ext cx="25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143000" y="47149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a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ANSW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ing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28760" y="50004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572080" y="571680"/>
            <a:ext cx="2514600" cy="5790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5857920" y="2643120"/>
            <a:ext cx="1895400" cy="2714760"/>
          </a:xfrm>
          <a:prstGeom prst="rect">
            <a:avLst/>
          </a:prstGeom>
          <a:ln cap="sq" w="38160">
            <a:solidFill>
              <a:srgbClr val="95373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8" name="Text Box 8"/>
          <p:cNvSpPr/>
          <p:nvPr/>
        </p:nvSpPr>
        <p:spPr>
          <a:xfrm>
            <a:off x="1571760" y="3429000"/>
            <a:ext cx="3886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ENERGY DRI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3902040" y="1920240"/>
            <a:ext cx="3768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66ff"/>
                </a:solidFill>
                <a:latin typeface="Calibri"/>
              </a:rPr>
              <a:t>S U O M I       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1214280" y="2714760"/>
            <a:ext cx="34290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9999"/>
                </a:solidFill>
                <a:latin typeface="Calibri"/>
                <a:ea typeface="Times New Roman"/>
              </a:rPr>
              <a:t>S U O M I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928800" y="485784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W AVAILABLE WHEREVER FINE BEVERAGES ARE SO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1643040" y="54291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ND WAL-M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5"/>
          <p:cNvSpPr/>
          <p:nvPr/>
        </p:nvSpPr>
        <p:spPr>
          <a:xfrm>
            <a:off x="1357200" y="13572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6"/>
          <p:cNvSpPr/>
          <p:nvPr/>
        </p:nvSpPr>
        <p:spPr>
          <a:xfrm>
            <a:off x="2714760" y="60721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5:12:13Z</dcterms:created>
  <dc:creator>sbrasier</dc:creator>
  <dc:description/>
  <dc:language>en-US</dc:language>
  <cp:lastModifiedBy>Administrator</cp:lastModifiedBy>
  <dcterms:modified xsi:type="dcterms:W3CDTF">2009-02-26T19:19:57Z</dcterms:modified>
  <cp:revision>45</cp:revision>
  <dc:subject/>
  <dc:title>The Quest for Revitalization</dc:title>
</cp:coreProperties>
</file>