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651C-FD69-43D7-B74D-5DCAB017D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B838-4FBB-47CF-BC78-AEB0105C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07D5-D2BD-462B-A28B-7E0115B4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7E87-BAE4-4BE8-804E-311651902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1F61-DB7B-4498-AC5C-560C63D7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1F12-AA5D-46F5-944F-4A79D40F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7184-6013-4A24-AC24-7B4F0449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31EF-44CE-4075-9137-B25C2503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405A-659F-42A1-90AF-ADCDE792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3D3E-3057-4358-949A-49E03297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DFF2-235E-40E5-975B-F5E0D084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BE0A-012D-47B5-A9DD-E5D8DD2F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A7DC-6DE9-4A53-9C63-2EA09A8F4B6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1844640"/>
            <a:ext cx="7272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lien Encounters"/>
              </a:rPr>
              <a:t>Holiday recommendation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Alien Encounters"/>
              </a:rPr>
              <a:t>for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4360" y="260280"/>
          <a:ext cx="289080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60280"/>
                    <a:ext cx="289080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5435640" y="907920"/>
            <a:ext cx="2455920" cy="4754520"/>
          </a:xfrm>
          <a:custGeom>
            <a:avLst/>
            <a:gdLst/>
            <a:ahLst/>
            <a:rect l="l" t="t" r="r" b="b"/>
            <a:pathLst>
              <a:path w="2427" h="4752">
                <a:moveTo>
                  <a:pt x="2228" y="4752"/>
                </a:moveTo>
                <a:lnTo>
                  <a:pt x="2238" y="4576"/>
                </a:lnTo>
                <a:lnTo>
                  <a:pt x="2244" y="4425"/>
                </a:lnTo>
                <a:lnTo>
                  <a:pt x="2244" y="4297"/>
                </a:lnTo>
                <a:lnTo>
                  <a:pt x="2244" y="4187"/>
                </a:lnTo>
                <a:lnTo>
                  <a:pt x="2241" y="4021"/>
                </a:lnTo>
                <a:lnTo>
                  <a:pt x="2225" y="3842"/>
                </a:lnTo>
                <a:lnTo>
                  <a:pt x="2198" y="3646"/>
                </a:lnTo>
                <a:lnTo>
                  <a:pt x="2159" y="3443"/>
                </a:lnTo>
                <a:lnTo>
                  <a:pt x="2113" y="3229"/>
                </a:lnTo>
                <a:lnTo>
                  <a:pt x="2058" y="3015"/>
                </a:lnTo>
                <a:lnTo>
                  <a:pt x="1996" y="2798"/>
                </a:lnTo>
                <a:lnTo>
                  <a:pt x="1924" y="2584"/>
                </a:lnTo>
                <a:lnTo>
                  <a:pt x="1911" y="2550"/>
                </a:lnTo>
                <a:lnTo>
                  <a:pt x="1897" y="2516"/>
                </a:lnTo>
                <a:lnTo>
                  <a:pt x="1884" y="2478"/>
                </a:lnTo>
                <a:lnTo>
                  <a:pt x="1871" y="2443"/>
                </a:lnTo>
                <a:lnTo>
                  <a:pt x="1855" y="2409"/>
                </a:lnTo>
                <a:lnTo>
                  <a:pt x="1842" y="2374"/>
                </a:lnTo>
                <a:lnTo>
                  <a:pt x="1829" y="2340"/>
                </a:lnTo>
                <a:lnTo>
                  <a:pt x="1816" y="2305"/>
                </a:lnTo>
                <a:lnTo>
                  <a:pt x="1773" y="2205"/>
                </a:lnTo>
                <a:lnTo>
                  <a:pt x="1731" y="2109"/>
                </a:lnTo>
                <a:lnTo>
                  <a:pt x="1685" y="2012"/>
                </a:lnTo>
                <a:lnTo>
                  <a:pt x="1639" y="1923"/>
                </a:lnTo>
                <a:lnTo>
                  <a:pt x="1590" y="1837"/>
                </a:lnTo>
                <a:lnTo>
                  <a:pt x="1544" y="1757"/>
                </a:lnTo>
                <a:lnTo>
                  <a:pt x="1495" y="1682"/>
                </a:lnTo>
                <a:lnTo>
                  <a:pt x="1446" y="1609"/>
                </a:lnTo>
                <a:lnTo>
                  <a:pt x="1443" y="1651"/>
                </a:lnTo>
                <a:lnTo>
                  <a:pt x="1433" y="1702"/>
                </a:lnTo>
                <a:lnTo>
                  <a:pt x="1417" y="1754"/>
                </a:lnTo>
                <a:lnTo>
                  <a:pt x="1394" y="1795"/>
                </a:lnTo>
                <a:lnTo>
                  <a:pt x="1381" y="1778"/>
                </a:lnTo>
                <a:lnTo>
                  <a:pt x="1364" y="1754"/>
                </a:lnTo>
                <a:lnTo>
                  <a:pt x="1338" y="1733"/>
                </a:lnTo>
                <a:lnTo>
                  <a:pt x="1309" y="1720"/>
                </a:lnTo>
                <a:lnTo>
                  <a:pt x="1322" y="1740"/>
                </a:lnTo>
                <a:lnTo>
                  <a:pt x="1331" y="1764"/>
                </a:lnTo>
                <a:lnTo>
                  <a:pt x="1338" y="1795"/>
                </a:lnTo>
                <a:lnTo>
                  <a:pt x="1341" y="1826"/>
                </a:lnTo>
                <a:lnTo>
                  <a:pt x="1331" y="1857"/>
                </a:lnTo>
                <a:lnTo>
                  <a:pt x="1315" y="1888"/>
                </a:lnTo>
                <a:lnTo>
                  <a:pt x="1289" y="1923"/>
                </a:lnTo>
                <a:lnTo>
                  <a:pt x="1256" y="1957"/>
                </a:lnTo>
                <a:lnTo>
                  <a:pt x="1246" y="1923"/>
                </a:lnTo>
                <a:lnTo>
                  <a:pt x="1230" y="1888"/>
                </a:lnTo>
                <a:lnTo>
                  <a:pt x="1214" y="1854"/>
                </a:lnTo>
                <a:lnTo>
                  <a:pt x="1191" y="1823"/>
                </a:lnTo>
                <a:lnTo>
                  <a:pt x="1168" y="1788"/>
                </a:lnTo>
                <a:lnTo>
                  <a:pt x="1142" y="1757"/>
                </a:lnTo>
                <a:lnTo>
                  <a:pt x="1112" y="1726"/>
                </a:lnTo>
                <a:lnTo>
                  <a:pt x="1086" y="1699"/>
                </a:lnTo>
                <a:lnTo>
                  <a:pt x="1106" y="1744"/>
                </a:lnTo>
                <a:lnTo>
                  <a:pt x="1129" y="1802"/>
                </a:lnTo>
                <a:lnTo>
                  <a:pt x="1152" y="1864"/>
                </a:lnTo>
                <a:lnTo>
                  <a:pt x="1168" y="1933"/>
                </a:lnTo>
                <a:lnTo>
                  <a:pt x="1174" y="1999"/>
                </a:lnTo>
                <a:lnTo>
                  <a:pt x="1168" y="2064"/>
                </a:lnTo>
                <a:lnTo>
                  <a:pt x="1142" y="2119"/>
                </a:lnTo>
                <a:lnTo>
                  <a:pt x="1093" y="2168"/>
                </a:lnTo>
                <a:lnTo>
                  <a:pt x="1093" y="2137"/>
                </a:lnTo>
                <a:lnTo>
                  <a:pt x="1083" y="2105"/>
                </a:lnTo>
                <a:lnTo>
                  <a:pt x="1070" y="2078"/>
                </a:lnTo>
                <a:lnTo>
                  <a:pt x="1057" y="2057"/>
                </a:lnTo>
                <a:lnTo>
                  <a:pt x="1047" y="2099"/>
                </a:lnTo>
                <a:lnTo>
                  <a:pt x="1040" y="2147"/>
                </a:lnTo>
                <a:lnTo>
                  <a:pt x="1034" y="2195"/>
                </a:lnTo>
                <a:lnTo>
                  <a:pt x="1027" y="2236"/>
                </a:lnTo>
                <a:lnTo>
                  <a:pt x="1004" y="2261"/>
                </a:lnTo>
                <a:lnTo>
                  <a:pt x="981" y="2292"/>
                </a:lnTo>
                <a:lnTo>
                  <a:pt x="959" y="2326"/>
                </a:lnTo>
                <a:lnTo>
                  <a:pt x="942" y="2357"/>
                </a:lnTo>
                <a:lnTo>
                  <a:pt x="936" y="2333"/>
                </a:lnTo>
                <a:lnTo>
                  <a:pt x="929" y="2302"/>
                </a:lnTo>
                <a:lnTo>
                  <a:pt x="926" y="2261"/>
                </a:lnTo>
                <a:lnTo>
                  <a:pt x="929" y="2212"/>
                </a:lnTo>
                <a:lnTo>
                  <a:pt x="909" y="2261"/>
                </a:lnTo>
                <a:lnTo>
                  <a:pt x="900" y="2305"/>
                </a:lnTo>
                <a:lnTo>
                  <a:pt x="896" y="2350"/>
                </a:lnTo>
                <a:lnTo>
                  <a:pt x="896" y="2388"/>
                </a:lnTo>
                <a:lnTo>
                  <a:pt x="821" y="2467"/>
                </a:lnTo>
                <a:lnTo>
                  <a:pt x="805" y="2364"/>
                </a:lnTo>
                <a:lnTo>
                  <a:pt x="798" y="2274"/>
                </a:lnTo>
                <a:lnTo>
                  <a:pt x="808" y="2195"/>
                </a:lnTo>
                <a:lnTo>
                  <a:pt x="824" y="2130"/>
                </a:lnTo>
                <a:lnTo>
                  <a:pt x="851" y="2068"/>
                </a:lnTo>
                <a:lnTo>
                  <a:pt x="887" y="2012"/>
                </a:lnTo>
                <a:lnTo>
                  <a:pt x="926" y="1957"/>
                </a:lnTo>
                <a:lnTo>
                  <a:pt x="972" y="1906"/>
                </a:lnTo>
                <a:lnTo>
                  <a:pt x="945" y="1916"/>
                </a:lnTo>
                <a:lnTo>
                  <a:pt x="919" y="1930"/>
                </a:lnTo>
                <a:lnTo>
                  <a:pt x="896" y="1950"/>
                </a:lnTo>
                <a:lnTo>
                  <a:pt x="877" y="1971"/>
                </a:lnTo>
                <a:lnTo>
                  <a:pt x="857" y="1992"/>
                </a:lnTo>
                <a:lnTo>
                  <a:pt x="837" y="2019"/>
                </a:lnTo>
                <a:lnTo>
                  <a:pt x="821" y="2043"/>
                </a:lnTo>
                <a:lnTo>
                  <a:pt x="805" y="2071"/>
                </a:lnTo>
                <a:lnTo>
                  <a:pt x="798" y="2009"/>
                </a:lnTo>
                <a:lnTo>
                  <a:pt x="808" y="1992"/>
                </a:lnTo>
                <a:lnTo>
                  <a:pt x="818" y="1971"/>
                </a:lnTo>
                <a:lnTo>
                  <a:pt x="831" y="1950"/>
                </a:lnTo>
                <a:lnTo>
                  <a:pt x="844" y="1930"/>
                </a:lnTo>
                <a:lnTo>
                  <a:pt x="857" y="1909"/>
                </a:lnTo>
                <a:lnTo>
                  <a:pt x="873" y="1888"/>
                </a:lnTo>
                <a:lnTo>
                  <a:pt x="890" y="1868"/>
                </a:lnTo>
                <a:lnTo>
                  <a:pt x="906" y="1847"/>
                </a:lnTo>
                <a:lnTo>
                  <a:pt x="893" y="1854"/>
                </a:lnTo>
                <a:lnTo>
                  <a:pt x="880" y="1857"/>
                </a:lnTo>
                <a:lnTo>
                  <a:pt x="867" y="1868"/>
                </a:lnTo>
                <a:lnTo>
                  <a:pt x="851" y="1875"/>
                </a:lnTo>
                <a:lnTo>
                  <a:pt x="837" y="1885"/>
                </a:lnTo>
                <a:lnTo>
                  <a:pt x="821" y="1895"/>
                </a:lnTo>
                <a:lnTo>
                  <a:pt x="808" y="1906"/>
                </a:lnTo>
                <a:lnTo>
                  <a:pt x="792" y="1919"/>
                </a:lnTo>
                <a:lnTo>
                  <a:pt x="798" y="1864"/>
                </a:lnTo>
                <a:lnTo>
                  <a:pt x="808" y="1816"/>
                </a:lnTo>
                <a:lnTo>
                  <a:pt x="821" y="1771"/>
                </a:lnTo>
                <a:lnTo>
                  <a:pt x="841" y="1733"/>
                </a:lnTo>
                <a:lnTo>
                  <a:pt x="860" y="1695"/>
                </a:lnTo>
                <a:lnTo>
                  <a:pt x="883" y="1661"/>
                </a:lnTo>
                <a:lnTo>
                  <a:pt x="909" y="1630"/>
                </a:lnTo>
                <a:lnTo>
                  <a:pt x="936" y="1602"/>
                </a:lnTo>
                <a:lnTo>
                  <a:pt x="906" y="1606"/>
                </a:lnTo>
                <a:lnTo>
                  <a:pt x="877" y="1609"/>
                </a:lnTo>
                <a:lnTo>
                  <a:pt x="847" y="1620"/>
                </a:lnTo>
                <a:lnTo>
                  <a:pt x="818" y="1630"/>
                </a:lnTo>
                <a:lnTo>
                  <a:pt x="792" y="1640"/>
                </a:lnTo>
                <a:lnTo>
                  <a:pt x="766" y="1654"/>
                </a:lnTo>
                <a:lnTo>
                  <a:pt x="743" y="1664"/>
                </a:lnTo>
                <a:lnTo>
                  <a:pt x="726" y="1675"/>
                </a:lnTo>
                <a:lnTo>
                  <a:pt x="726" y="1651"/>
                </a:lnTo>
                <a:lnTo>
                  <a:pt x="730" y="1616"/>
                </a:lnTo>
                <a:lnTo>
                  <a:pt x="736" y="1575"/>
                </a:lnTo>
                <a:lnTo>
                  <a:pt x="739" y="1537"/>
                </a:lnTo>
                <a:lnTo>
                  <a:pt x="723" y="1568"/>
                </a:lnTo>
                <a:lnTo>
                  <a:pt x="710" y="1606"/>
                </a:lnTo>
                <a:lnTo>
                  <a:pt x="697" y="1651"/>
                </a:lnTo>
                <a:lnTo>
                  <a:pt x="684" y="1695"/>
                </a:lnTo>
                <a:lnTo>
                  <a:pt x="654" y="1709"/>
                </a:lnTo>
                <a:lnTo>
                  <a:pt x="622" y="1723"/>
                </a:lnTo>
                <a:lnTo>
                  <a:pt x="592" y="1737"/>
                </a:lnTo>
                <a:lnTo>
                  <a:pt x="556" y="1754"/>
                </a:lnTo>
                <a:lnTo>
                  <a:pt x="523" y="1771"/>
                </a:lnTo>
                <a:lnTo>
                  <a:pt x="491" y="1788"/>
                </a:lnTo>
                <a:lnTo>
                  <a:pt x="458" y="1806"/>
                </a:lnTo>
                <a:lnTo>
                  <a:pt x="429" y="1823"/>
                </a:lnTo>
                <a:lnTo>
                  <a:pt x="337" y="1826"/>
                </a:lnTo>
                <a:lnTo>
                  <a:pt x="327" y="1871"/>
                </a:lnTo>
                <a:lnTo>
                  <a:pt x="308" y="1885"/>
                </a:lnTo>
                <a:lnTo>
                  <a:pt x="288" y="1902"/>
                </a:lnTo>
                <a:lnTo>
                  <a:pt x="265" y="1919"/>
                </a:lnTo>
                <a:lnTo>
                  <a:pt x="242" y="1940"/>
                </a:lnTo>
                <a:lnTo>
                  <a:pt x="219" y="1961"/>
                </a:lnTo>
                <a:lnTo>
                  <a:pt x="196" y="1981"/>
                </a:lnTo>
                <a:lnTo>
                  <a:pt x="173" y="2002"/>
                </a:lnTo>
                <a:lnTo>
                  <a:pt x="150" y="2023"/>
                </a:lnTo>
                <a:lnTo>
                  <a:pt x="150" y="1926"/>
                </a:lnTo>
                <a:lnTo>
                  <a:pt x="167" y="1837"/>
                </a:lnTo>
                <a:lnTo>
                  <a:pt x="193" y="1754"/>
                </a:lnTo>
                <a:lnTo>
                  <a:pt x="229" y="1675"/>
                </a:lnTo>
                <a:lnTo>
                  <a:pt x="268" y="1602"/>
                </a:lnTo>
                <a:lnTo>
                  <a:pt x="314" y="1537"/>
                </a:lnTo>
                <a:lnTo>
                  <a:pt x="363" y="1478"/>
                </a:lnTo>
                <a:lnTo>
                  <a:pt x="409" y="1427"/>
                </a:lnTo>
                <a:lnTo>
                  <a:pt x="386" y="1434"/>
                </a:lnTo>
                <a:lnTo>
                  <a:pt x="363" y="1444"/>
                </a:lnTo>
                <a:lnTo>
                  <a:pt x="340" y="1458"/>
                </a:lnTo>
                <a:lnTo>
                  <a:pt x="321" y="1471"/>
                </a:lnTo>
                <a:lnTo>
                  <a:pt x="301" y="1485"/>
                </a:lnTo>
                <a:lnTo>
                  <a:pt x="281" y="1502"/>
                </a:lnTo>
                <a:lnTo>
                  <a:pt x="265" y="1520"/>
                </a:lnTo>
                <a:lnTo>
                  <a:pt x="252" y="1533"/>
                </a:lnTo>
                <a:lnTo>
                  <a:pt x="226" y="1523"/>
                </a:lnTo>
                <a:lnTo>
                  <a:pt x="249" y="1482"/>
                </a:lnTo>
                <a:lnTo>
                  <a:pt x="278" y="1447"/>
                </a:lnTo>
                <a:lnTo>
                  <a:pt x="311" y="1413"/>
                </a:lnTo>
                <a:lnTo>
                  <a:pt x="347" y="1385"/>
                </a:lnTo>
                <a:lnTo>
                  <a:pt x="389" y="1361"/>
                </a:lnTo>
                <a:lnTo>
                  <a:pt x="432" y="1337"/>
                </a:lnTo>
                <a:lnTo>
                  <a:pt x="474" y="1316"/>
                </a:lnTo>
                <a:lnTo>
                  <a:pt x="520" y="1299"/>
                </a:lnTo>
                <a:lnTo>
                  <a:pt x="566" y="1285"/>
                </a:lnTo>
                <a:lnTo>
                  <a:pt x="608" y="1275"/>
                </a:lnTo>
                <a:lnTo>
                  <a:pt x="651" y="1261"/>
                </a:lnTo>
                <a:lnTo>
                  <a:pt x="694" y="1254"/>
                </a:lnTo>
                <a:lnTo>
                  <a:pt x="730" y="1244"/>
                </a:lnTo>
                <a:lnTo>
                  <a:pt x="766" y="1237"/>
                </a:lnTo>
                <a:lnTo>
                  <a:pt x="795" y="1230"/>
                </a:lnTo>
                <a:lnTo>
                  <a:pt x="818" y="1223"/>
                </a:lnTo>
                <a:lnTo>
                  <a:pt x="831" y="1220"/>
                </a:lnTo>
                <a:lnTo>
                  <a:pt x="851" y="1213"/>
                </a:lnTo>
                <a:lnTo>
                  <a:pt x="867" y="1210"/>
                </a:lnTo>
                <a:lnTo>
                  <a:pt x="887" y="1203"/>
                </a:lnTo>
                <a:lnTo>
                  <a:pt x="903" y="1199"/>
                </a:lnTo>
                <a:lnTo>
                  <a:pt x="916" y="1196"/>
                </a:lnTo>
                <a:lnTo>
                  <a:pt x="926" y="1192"/>
                </a:lnTo>
                <a:lnTo>
                  <a:pt x="929" y="1192"/>
                </a:lnTo>
                <a:lnTo>
                  <a:pt x="949" y="1189"/>
                </a:lnTo>
                <a:lnTo>
                  <a:pt x="972" y="1189"/>
                </a:lnTo>
                <a:lnTo>
                  <a:pt x="998" y="1189"/>
                </a:lnTo>
                <a:lnTo>
                  <a:pt x="1027" y="1189"/>
                </a:lnTo>
                <a:lnTo>
                  <a:pt x="1057" y="1185"/>
                </a:lnTo>
                <a:lnTo>
                  <a:pt x="1083" y="1185"/>
                </a:lnTo>
                <a:lnTo>
                  <a:pt x="1109" y="1182"/>
                </a:lnTo>
                <a:lnTo>
                  <a:pt x="1129" y="1175"/>
                </a:lnTo>
                <a:lnTo>
                  <a:pt x="1106" y="1151"/>
                </a:lnTo>
                <a:lnTo>
                  <a:pt x="1089" y="1127"/>
                </a:lnTo>
                <a:lnTo>
                  <a:pt x="1080" y="1096"/>
                </a:lnTo>
                <a:lnTo>
                  <a:pt x="1073" y="1065"/>
                </a:lnTo>
                <a:lnTo>
                  <a:pt x="1066" y="1085"/>
                </a:lnTo>
                <a:lnTo>
                  <a:pt x="1060" y="1113"/>
                </a:lnTo>
                <a:lnTo>
                  <a:pt x="1050" y="1144"/>
                </a:lnTo>
                <a:lnTo>
                  <a:pt x="1047" y="1175"/>
                </a:lnTo>
                <a:lnTo>
                  <a:pt x="985" y="1179"/>
                </a:lnTo>
                <a:lnTo>
                  <a:pt x="981" y="1158"/>
                </a:lnTo>
                <a:lnTo>
                  <a:pt x="981" y="1106"/>
                </a:lnTo>
                <a:lnTo>
                  <a:pt x="981" y="1037"/>
                </a:lnTo>
                <a:lnTo>
                  <a:pt x="991" y="958"/>
                </a:lnTo>
                <a:lnTo>
                  <a:pt x="968" y="1010"/>
                </a:lnTo>
                <a:lnTo>
                  <a:pt x="952" y="1072"/>
                </a:lnTo>
                <a:lnTo>
                  <a:pt x="939" y="1137"/>
                </a:lnTo>
                <a:lnTo>
                  <a:pt x="929" y="1192"/>
                </a:lnTo>
                <a:lnTo>
                  <a:pt x="926" y="1192"/>
                </a:lnTo>
                <a:lnTo>
                  <a:pt x="916" y="1196"/>
                </a:lnTo>
                <a:lnTo>
                  <a:pt x="903" y="1199"/>
                </a:lnTo>
                <a:lnTo>
                  <a:pt x="887" y="1203"/>
                </a:lnTo>
                <a:lnTo>
                  <a:pt x="867" y="1210"/>
                </a:lnTo>
                <a:lnTo>
                  <a:pt x="851" y="1213"/>
                </a:lnTo>
                <a:lnTo>
                  <a:pt x="831" y="1220"/>
                </a:lnTo>
                <a:lnTo>
                  <a:pt x="818" y="1223"/>
                </a:lnTo>
                <a:lnTo>
                  <a:pt x="805" y="1203"/>
                </a:lnTo>
                <a:lnTo>
                  <a:pt x="785" y="1185"/>
                </a:lnTo>
                <a:lnTo>
                  <a:pt x="766" y="1168"/>
                </a:lnTo>
                <a:lnTo>
                  <a:pt x="743" y="1154"/>
                </a:lnTo>
                <a:lnTo>
                  <a:pt x="716" y="1141"/>
                </a:lnTo>
                <a:lnTo>
                  <a:pt x="694" y="1130"/>
                </a:lnTo>
                <a:lnTo>
                  <a:pt x="667" y="1123"/>
                </a:lnTo>
                <a:lnTo>
                  <a:pt x="644" y="1116"/>
                </a:lnTo>
                <a:lnTo>
                  <a:pt x="654" y="1085"/>
                </a:lnTo>
                <a:lnTo>
                  <a:pt x="664" y="1051"/>
                </a:lnTo>
                <a:lnTo>
                  <a:pt x="680" y="1017"/>
                </a:lnTo>
                <a:lnTo>
                  <a:pt x="697" y="982"/>
                </a:lnTo>
                <a:lnTo>
                  <a:pt x="713" y="948"/>
                </a:lnTo>
                <a:lnTo>
                  <a:pt x="733" y="913"/>
                </a:lnTo>
                <a:lnTo>
                  <a:pt x="749" y="879"/>
                </a:lnTo>
                <a:lnTo>
                  <a:pt x="769" y="844"/>
                </a:lnTo>
                <a:lnTo>
                  <a:pt x="739" y="865"/>
                </a:lnTo>
                <a:lnTo>
                  <a:pt x="713" y="893"/>
                </a:lnTo>
                <a:lnTo>
                  <a:pt x="687" y="927"/>
                </a:lnTo>
                <a:lnTo>
                  <a:pt x="664" y="961"/>
                </a:lnTo>
                <a:lnTo>
                  <a:pt x="638" y="1003"/>
                </a:lnTo>
                <a:lnTo>
                  <a:pt x="618" y="1041"/>
                </a:lnTo>
                <a:lnTo>
                  <a:pt x="602" y="1079"/>
                </a:lnTo>
                <a:lnTo>
                  <a:pt x="586" y="1113"/>
                </a:lnTo>
                <a:lnTo>
                  <a:pt x="540" y="1072"/>
                </a:lnTo>
                <a:lnTo>
                  <a:pt x="550" y="1044"/>
                </a:lnTo>
                <a:lnTo>
                  <a:pt x="569" y="999"/>
                </a:lnTo>
                <a:lnTo>
                  <a:pt x="589" y="955"/>
                </a:lnTo>
                <a:lnTo>
                  <a:pt x="608" y="910"/>
                </a:lnTo>
                <a:lnTo>
                  <a:pt x="589" y="924"/>
                </a:lnTo>
                <a:lnTo>
                  <a:pt x="569" y="941"/>
                </a:lnTo>
                <a:lnTo>
                  <a:pt x="550" y="961"/>
                </a:lnTo>
                <a:lnTo>
                  <a:pt x="530" y="986"/>
                </a:lnTo>
                <a:lnTo>
                  <a:pt x="510" y="1010"/>
                </a:lnTo>
                <a:lnTo>
                  <a:pt x="491" y="1037"/>
                </a:lnTo>
                <a:lnTo>
                  <a:pt x="474" y="1061"/>
                </a:lnTo>
                <a:lnTo>
                  <a:pt x="461" y="1089"/>
                </a:lnTo>
                <a:lnTo>
                  <a:pt x="445" y="1085"/>
                </a:lnTo>
                <a:lnTo>
                  <a:pt x="425" y="1079"/>
                </a:lnTo>
                <a:lnTo>
                  <a:pt x="406" y="1075"/>
                </a:lnTo>
                <a:lnTo>
                  <a:pt x="386" y="1068"/>
                </a:lnTo>
                <a:lnTo>
                  <a:pt x="363" y="1065"/>
                </a:lnTo>
                <a:lnTo>
                  <a:pt x="343" y="1058"/>
                </a:lnTo>
                <a:lnTo>
                  <a:pt x="327" y="1054"/>
                </a:lnTo>
                <a:lnTo>
                  <a:pt x="317" y="1051"/>
                </a:lnTo>
                <a:lnTo>
                  <a:pt x="327" y="1034"/>
                </a:lnTo>
                <a:lnTo>
                  <a:pt x="340" y="1013"/>
                </a:lnTo>
                <a:lnTo>
                  <a:pt x="360" y="986"/>
                </a:lnTo>
                <a:lnTo>
                  <a:pt x="383" y="955"/>
                </a:lnTo>
                <a:lnTo>
                  <a:pt x="406" y="924"/>
                </a:lnTo>
                <a:lnTo>
                  <a:pt x="429" y="896"/>
                </a:lnTo>
                <a:lnTo>
                  <a:pt x="448" y="872"/>
                </a:lnTo>
                <a:lnTo>
                  <a:pt x="468" y="851"/>
                </a:lnTo>
                <a:lnTo>
                  <a:pt x="448" y="806"/>
                </a:lnTo>
                <a:lnTo>
                  <a:pt x="435" y="820"/>
                </a:lnTo>
                <a:lnTo>
                  <a:pt x="419" y="844"/>
                </a:lnTo>
                <a:lnTo>
                  <a:pt x="396" y="872"/>
                </a:lnTo>
                <a:lnTo>
                  <a:pt x="373" y="906"/>
                </a:lnTo>
                <a:lnTo>
                  <a:pt x="347" y="941"/>
                </a:lnTo>
                <a:lnTo>
                  <a:pt x="324" y="975"/>
                </a:lnTo>
                <a:lnTo>
                  <a:pt x="301" y="1003"/>
                </a:lnTo>
                <a:lnTo>
                  <a:pt x="285" y="1027"/>
                </a:lnTo>
                <a:lnTo>
                  <a:pt x="294" y="992"/>
                </a:lnTo>
                <a:lnTo>
                  <a:pt x="304" y="955"/>
                </a:lnTo>
                <a:lnTo>
                  <a:pt x="311" y="913"/>
                </a:lnTo>
                <a:lnTo>
                  <a:pt x="321" y="882"/>
                </a:lnTo>
                <a:lnTo>
                  <a:pt x="298" y="896"/>
                </a:lnTo>
                <a:lnTo>
                  <a:pt x="278" y="913"/>
                </a:lnTo>
                <a:lnTo>
                  <a:pt x="255" y="927"/>
                </a:lnTo>
                <a:lnTo>
                  <a:pt x="232" y="944"/>
                </a:lnTo>
                <a:lnTo>
                  <a:pt x="213" y="961"/>
                </a:lnTo>
                <a:lnTo>
                  <a:pt x="193" y="982"/>
                </a:lnTo>
                <a:lnTo>
                  <a:pt x="173" y="1003"/>
                </a:lnTo>
                <a:lnTo>
                  <a:pt x="154" y="1023"/>
                </a:lnTo>
                <a:lnTo>
                  <a:pt x="137" y="1020"/>
                </a:lnTo>
                <a:lnTo>
                  <a:pt x="121" y="1020"/>
                </a:lnTo>
                <a:lnTo>
                  <a:pt x="101" y="1020"/>
                </a:lnTo>
                <a:lnTo>
                  <a:pt x="82" y="1020"/>
                </a:lnTo>
                <a:lnTo>
                  <a:pt x="62" y="1023"/>
                </a:lnTo>
                <a:lnTo>
                  <a:pt x="43" y="1023"/>
                </a:lnTo>
                <a:lnTo>
                  <a:pt x="20" y="1027"/>
                </a:lnTo>
                <a:lnTo>
                  <a:pt x="0" y="1030"/>
                </a:lnTo>
                <a:lnTo>
                  <a:pt x="49" y="986"/>
                </a:lnTo>
                <a:lnTo>
                  <a:pt x="101" y="944"/>
                </a:lnTo>
                <a:lnTo>
                  <a:pt x="160" y="906"/>
                </a:lnTo>
                <a:lnTo>
                  <a:pt x="219" y="872"/>
                </a:lnTo>
                <a:lnTo>
                  <a:pt x="281" y="844"/>
                </a:lnTo>
                <a:lnTo>
                  <a:pt x="343" y="817"/>
                </a:lnTo>
                <a:lnTo>
                  <a:pt x="406" y="793"/>
                </a:lnTo>
                <a:lnTo>
                  <a:pt x="465" y="775"/>
                </a:lnTo>
                <a:lnTo>
                  <a:pt x="481" y="772"/>
                </a:lnTo>
                <a:lnTo>
                  <a:pt x="497" y="765"/>
                </a:lnTo>
                <a:lnTo>
                  <a:pt x="514" y="762"/>
                </a:lnTo>
                <a:lnTo>
                  <a:pt x="530" y="758"/>
                </a:lnTo>
                <a:lnTo>
                  <a:pt x="543" y="755"/>
                </a:lnTo>
                <a:lnTo>
                  <a:pt x="556" y="751"/>
                </a:lnTo>
                <a:lnTo>
                  <a:pt x="569" y="748"/>
                </a:lnTo>
                <a:lnTo>
                  <a:pt x="582" y="748"/>
                </a:lnTo>
                <a:lnTo>
                  <a:pt x="608" y="744"/>
                </a:lnTo>
                <a:lnTo>
                  <a:pt x="638" y="741"/>
                </a:lnTo>
                <a:lnTo>
                  <a:pt x="667" y="737"/>
                </a:lnTo>
                <a:lnTo>
                  <a:pt x="697" y="737"/>
                </a:lnTo>
                <a:lnTo>
                  <a:pt x="726" y="737"/>
                </a:lnTo>
                <a:lnTo>
                  <a:pt x="756" y="741"/>
                </a:lnTo>
                <a:lnTo>
                  <a:pt x="788" y="744"/>
                </a:lnTo>
                <a:lnTo>
                  <a:pt x="824" y="748"/>
                </a:lnTo>
                <a:lnTo>
                  <a:pt x="857" y="755"/>
                </a:lnTo>
                <a:lnTo>
                  <a:pt x="896" y="762"/>
                </a:lnTo>
                <a:lnTo>
                  <a:pt x="936" y="772"/>
                </a:lnTo>
                <a:lnTo>
                  <a:pt x="975" y="782"/>
                </a:lnTo>
                <a:lnTo>
                  <a:pt x="1017" y="793"/>
                </a:lnTo>
                <a:lnTo>
                  <a:pt x="1066" y="806"/>
                </a:lnTo>
                <a:lnTo>
                  <a:pt x="1112" y="820"/>
                </a:lnTo>
                <a:lnTo>
                  <a:pt x="1165" y="837"/>
                </a:lnTo>
                <a:lnTo>
                  <a:pt x="1152" y="813"/>
                </a:lnTo>
                <a:lnTo>
                  <a:pt x="1129" y="789"/>
                </a:lnTo>
                <a:lnTo>
                  <a:pt x="1106" y="768"/>
                </a:lnTo>
                <a:lnTo>
                  <a:pt x="1076" y="755"/>
                </a:lnTo>
                <a:lnTo>
                  <a:pt x="1047" y="741"/>
                </a:lnTo>
                <a:lnTo>
                  <a:pt x="1014" y="731"/>
                </a:lnTo>
                <a:lnTo>
                  <a:pt x="985" y="724"/>
                </a:lnTo>
                <a:lnTo>
                  <a:pt x="955" y="717"/>
                </a:lnTo>
                <a:lnTo>
                  <a:pt x="929" y="631"/>
                </a:lnTo>
                <a:lnTo>
                  <a:pt x="900" y="555"/>
                </a:lnTo>
                <a:lnTo>
                  <a:pt x="867" y="482"/>
                </a:lnTo>
                <a:lnTo>
                  <a:pt x="828" y="417"/>
                </a:lnTo>
                <a:lnTo>
                  <a:pt x="788" y="355"/>
                </a:lnTo>
                <a:lnTo>
                  <a:pt x="746" y="296"/>
                </a:lnTo>
                <a:lnTo>
                  <a:pt x="700" y="234"/>
                </a:lnTo>
                <a:lnTo>
                  <a:pt x="651" y="176"/>
                </a:lnTo>
                <a:lnTo>
                  <a:pt x="664" y="176"/>
                </a:lnTo>
                <a:lnTo>
                  <a:pt x="680" y="176"/>
                </a:lnTo>
                <a:lnTo>
                  <a:pt x="697" y="172"/>
                </a:lnTo>
                <a:lnTo>
                  <a:pt x="713" y="172"/>
                </a:lnTo>
                <a:lnTo>
                  <a:pt x="730" y="172"/>
                </a:lnTo>
                <a:lnTo>
                  <a:pt x="743" y="172"/>
                </a:lnTo>
                <a:lnTo>
                  <a:pt x="756" y="172"/>
                </a:lnTo>
                <a:lnTo>
                  <a:pt x="769" y="176"/>
                </a:lnTo>
                <a:lnTo>
                  <a:pt x="779" y="193"/>
                </a:lnTo>
                <a:lnTo>
                  <a:pt x="792" y="217"/>
                </a:lnTo>
                <a:lnTo>
                  <a:pt x="805" y="241"/>
                </a:lnTo>
                <a:lnTo>
                  <a:pt x="818" y="272"/>
                </a:lnTo>
                <a:lnTo>
                  <a:pt x="834" y="303"/>
                </a:lnTo>
                <a:lnTo>
                  <a:pt x="851" y="338"/>
                </a:lnTo>
                <a:lnTo>
                  <a:pt x="870" y="376"/>
                </a:lnTo>
                <a:lnTo>
                  <a:pt x="887" y="414"/>
                </a:lnTo>
                <a:lnTo>
                  <a:pt x="877" y="362"/>
                </a:lnTo>
                <a:lnTo>
                  <a:pt x="867" y="310"/>
                </a:lnTo>
                <a:lnTo>
                  <a:pt x="854" y="258"/>
                </a:lnTo>
                <a:lnTo>
                  <a:pt x="841" y="203"/>
                </a:lnTo>
                <a:lnTo>
                  <a:pt x="887" y="238"/>
                </a:lnTo>
                <a:lnTo>
                  <a:pt x="932" y="283"/>
                </a:lnTo>
                <a:lnTo>
                  <a:pt x="978" y="331"/>
                </a:lnTo>
                <a:lnTo>
                  <a:pt x="1021" y="386"/>
                </a:lnTo>
                <a:lnTo>
                  <a:pt x="1063" y="441"/>
                </a:lnTo>
                <a:lnTo>
                  <a:pt x="1102" y="493"/>
                </a:lnTo>
                <a:lnTo>
                  <a:pt x="1135" y="541"/>
                </a:lnTo>
                <a:lnTo>
                  <a:pt x="1161" y="582"/>
                </a:lnTo>
                <a:lnTo>
                  <a:pt x="1171" y="548"/>
                </a:lnTo>
                <a:lnTo>
                  <a:pt x="1184" y="510"/>
                </a:lnTo>
                <a:lnTo>
                  <a:pt x="1201" y="472"/>
                </a:lnTo>
                <a:lnTo>
                  <a:pt x="1220" y="431"/>
                </a:lnTo>
                <a:lnTo>
                  <a:pt x="1240" y="393"/>
                </a:lnTo>
                <a:lnTo>
                  <a:pt x="1259" y="355"/>
                </a:lnTo>
                <a:lnTo>
                  <a:pt x="1282" y="320"/>
                </a:lnTo>
                <a:lnTo>
                  <a:pt x="1302" y="293"/>
                </a:lnTo>
                <a:lnTo>
                  <a:pt x="1338" y="300"/>
                </a:lnTo>
                <a:lnTo>
                  <a:pt x="1354" y="272"/>
                </a:lnTo>
                <a:lnTo>
                  <a:pt x="1374" y="245"/>
                </a:lnTo>
                <a:lnTo>
                  <a:pt x="1394" y="217"/>
                </a:lnTo>
                <a:lnTo>
                  <a:pt x="1413" y="200"/>
                </a:lnTo>
                <a:lnTo>
                  <a:pt x="1420" y="214"/>
                </a:lnTo>
                <a:lnTo>
                  <a:pt x="1439" y="245"/>
                </a:lnTo>
                <a:lnTo>
                  <a:pt x="1459" y="283"/>
                </a:lnTo>
                <a:lnTo>
                  <a:pt x="1479" y="310"/>
                </a:lnTo>
                <a:lnTo>
                  <a:pt x="1462" y="148"/>
                </a:lnTo>
                <a:lnTo>
                  <a:pt x="1495" y="131"/>
                </a:lnTo>
                <a:lnTo>
                  <a:pt x="1502" y="155"/>
                </a:lnTo>
                <a:lnTo>
                  <a:pt x="1511" y="221"/>
                </a:lnTo>
                <a:lnTo>
                  <a:pt x="1531" y="307"/>
                </a:lnTo>
                <a:lnTo>
                  <a:pt x="1547" y="389"/>
                </a:lnTo>
                <a:lnTo>
                  <a:pt x="1544" y="320"/>
                </a:lnTo>
                <a:lnTo>
                  <a:pt x="1547" y="231"/>
                </a:lnTo>
                <a:lnTo>
                  <a:pt x="1557" y="134"/>
                </a:lnTo>
                <a:lnTo>
                  <a:pt x="1567" y="48"/>
                </a:lnTo>
                <a:lnTo>
                  <a:pt x="1580" y="41"/>
                </a:lnTo>
                <a:lnTo>
                  <a:pt x="1593" y="38"/>
                </a:lnTo>
                <a:lnTo>
                  <a:pt x="1610" y="34"/>
                </a:lnTo>
                <a:lnTo>
                  <a:pt x="1626" y="31"/>
                </a:lnTo>
                <a:lnTo>
                  <a:pt x="1639" y="31"/>
                </a:lnTo>
                <a:lnTo>
                  <a:pt x="1659" y="31"/>
                </a:lnTo>
                <a:lnTo>
                  <a:pt x="1675" y="31"/>
                </a:lnTo>
                <a:lnTo>
                  <a:pt x="1691" y="31"/>
                </a:lnTo>
                <a:lnTo>
                  <a:pt x="1678" y="110"/>
                </a:lnTo>
                <a:lnTo>
                  <a:pt x="1685" y="100"/>
                </a:lnTo>
                <a:lnTo>
                  <a:pt x="1698" y="69"/>
                </a:lnTo>
                <a:lnTo>
                  <a:pt x="1714" y="34"/>
                </a:lnTo>
                <a:lnTo>
                  <a:pt x="1734" y="7"/>
                </a:lnTo>
                <a:lnTo>
                  <a:pt x="1793" y="0"/>
                </a:lnTo>
                <a:lnTo>
                  <a:pt x="1780" y="31"/>
                </a:lnTo>
                <a:lnTo>
                  <a:pt x="1770" y="69"/>
                </a:lnTo>
                <a:lnTo>
                  <a:pt x="1760" y="107"/>
                </a:lnTo>
                <a:lnTo>
                  <a:pt x="1753" y="141"/>
                </a:lnTo>
                <a:lnTo>
                  <a:pt x="1770" y="124"/>
                </a:lnTo>
                <a:lnTo>
                  <a:pt x="1789" y="107"/>
                </a:lnTo>
                <a:lnTo>
                  <a:pt x="1806" y="93"/>
                </a:lnTo>
                <a:lnTo>
                  <a:pt x="1829" y="76"/>
                </a:lnTo>
                <a:lnTo>
                  <a:pt x="1848" y="62"/>
                </a:lnTo>
                <a:lnTo>
                  <a:pt x="1871" y="52"/>
                </a:lnTo>
                <a:lnTo>
                  <a:pt x="1894" y="38"/>
                </a:lnTo>
                <a:lnTo>
                  <a:pt x="1920" y="28"/>
                </a:lnTo>
                <a:lnTo>
                  <a:pt x="1881" y="83"/>
                </a:lnTo>
                <a:lnTo>
                  <a:pt x="1842" y="155"/>
                </a:lnTo>
                <a:lnTo>
                  <a:pt x="1799" y="234"/>
                </a:lnTo>
                <a:lnTo>
                  <a:pt x="1763" y="324"/>
                </a:lnTo>
                <a:lnTo>
                  <a:pt x="1727" y="420"/>
                </a:lnTo>
                <a:lnTo>
                  <a:pt x="1695" y="524"/>
                </a:lnTo>
                <a:lnTo>
                  <a:pt x="1665" y="627"/>
                </a:lnTo>
                <a:lnTo>
                  <a:pt x="1639" y="734"/>
                </a:lnTo>
                <a:lnTo>
                  <a:pt x="1560" y="693"/>
                </a:lnTo>
                <a:lnTo>
                  <a:pt x="1551" y="658"/>
                </a:lnTo>
                <a:lnTo>
                  <a:pt x="1538" y="624"/>
                </a:lnTo>
                <a:lnTo>
                  <a:pt x="1521" y="589"/>
                </a:lnTo>
                <a:lnTo>
                  <a:pt x="1498" y="555"/>
                </a:lnTo>
                <a:lnTo>
                  <a:pt x="1475" y="524"/>
                </a:lnTo>
                <a:lnTo>
                  <a:pt x="1449" y="493"/>
                </a:lnTo>
                <a:lnTo>
                  <a:pt x="1420" y="469"/>
                </a:lnTo>
                <a:lnTo>
                  <a:pt x="1387" y="448"/>
                </a:lnTo>
                <a:lnTo>
                  <a:pt x="1341" y="482"/>
                </a:lnTo>
                <a:lnTo>
                  <a:pt x="1371" y="503"/>
                </a:lnTo>
                <a:lnTo>
                  <a:pt x="1400" y="520"/>
                </a:lnTo>
                <a:lnTo>
                  <a:pt x="1426" y="538"/>
                </a:lnTo>
                <a:lnTo>
                  <a:pt x="1453" y="555"/>
                </a:lnTo>
                <a:lnTo>
                  <a:pt x="1475" y="579"/>
                </a:lnTo>
                <a:lnTo>
                  <a:pt x="1505" y="606"/>
                </a:lnTo>
                <a:lnTo>
                  <a:pt x="1531" y="644"/>
                </a:lnTo>
                <a:lnTo>
                  <a:pt x="1560" y="693"/>
                </a:lnTo>
                <a:lnTo>
                  <a:pt x="1639" y="734"/>
                </a:lnTo>
                <a:lnTo>
                  <a:pt x="1632" y="775"/>
                </a:lnTo>
                <a:lnTo>
                  <a:pt x="1626" y="824"/>
                </a:lnTo>
                <a:lnTo>
                  <a:pt x="1623" y="872"/>
                </a:lnTo>
                <a:lnTo>
                  <a:pt x="1619" y="917"/>
                </a:lnTo>
                <a:lnTo>
                  <a:pt x="1636" y="868"/>
                </a:lnTo>
                <a:lnTo>
                  <a:pt x="1652" y="820"/>
                </a:lnTo>
                <a:lnTo>
                  <a:pt x="1672" y="779"/>
                </a:lnTo>
                <a:lnTo>
                  <a:pt x="1688" y="734"/>
                </a:lnTo>
                <a:lnTo>
                  <a:pt x="1731" y="700"/>
                </a:lnTo>
                <a:lnTo>
                  <a:pt x="1776" y="665"/>
                </a:lnTo>
                <a:lnTo>
                  <a:pt x="1822" y="638"/>
                </a:lnTo>
                <a:lnTo>
                  <a:pt x="1871" y="610"/>
                </a:lnTo>
                <a:lnTo>
                  <a:pt x="1920" y="589"/>
                </a:lnTo>
                <a:lnTo>
                  <a:pt x="1969" y="569"/>
                </a:lnTo>
                <a:lnTo>
                  <a:pt x="2015" y="555"/>
                </a:lnTo>
                <a:lnTo>
                  <a:pt x="2064" y="538"/>
                </a:lnTo>
                <a:lnTo>
                  <a:pt x="2113" y="527"/>
                </a:lnTo>
                <a:lnTo>
                  <a:pt x="2159" y="520"/>
                </a:lnTo>
                <a:lnTo>
                  <a:pt x="2205" y="510"/>
                </a:lnTo>
                <a:lnTo>
                  <a:pt x="2247" y="507"/>
                </a:lnTo>
                <a:lnTo>
                  <a:pt x="2290" y="503"/>
                </a:lnTo>
                <a:lnTo>
                  <a:pt x="2333" y="500"/>
                </a:lnTo>
                <a:lnTo>
                  <a:pt x="2369" y="500"/>
                </a:lnTo>
                <a:lnTo>
                  <a:pt x="2404" y="500"/>
                </a:lnTo>
                <a:lnTo>
                  <a:pt x="2385" y="513"/>
                </a:lnTo>
                <a:lnTo>
                  <a:pt x="2362" y="527"/>
                </a:lnTo>
                <a:lnTo>
                  <a:pt x="2342" y="541"/>
                </a:lnTo>
                <a:lnTo>
                  <a:pt x="2323" y="555"/>
                </a:lnTo>
                <a:lnTo>
                  <a:pt x="2303" y="572"/>
                </a:lnTo>
                <a:lnTo>
                  <a:pt x="2287" y="586"/>
                </a:lnTo>
                <a:lnTo>
                  <a:pt x="2270" y="600"/>
                </a:lnTo>
                <a:lnTo>
                  <a:pt x="2261" y="613"/>
                </a:lnTo>
                <a:lnTo>
                  <a:pt x="2270" y="558"/>
                </a:lnTo>
                <a:lnTo>
                  <a:pt x="2254" y="572"/>
                </a:lnTo>
                <a:lnTo>
                  <a:pt x="2234" y="589"/>
                </a:lnTo>
                <a:lnTo>
                  <a:pt x="2215" y="610"/>
                </a:lnTo>
                <a:lnTo>
                  <a:pt x="2195" y="634"/>
                </a:lnTo>
                <a:lnTo>
                  <a:pt x="2175" y="658"/>
                </a:lnTo>
                <a:lnTo>
                  <a:pt x="2159" y="682"/>
                </a:lnTo>
                <a:lnTo>
                  <a:pt x="2143" y="703"/>
                </a:lnTo>
                <a:lnTo>
                  <a:pt x="2130" y="720"/>
                </a:lnTo>
                <a:lnTo>
                  <a:pt x="2136" y="689"/>
                </a:lnTo>
                <a:lnTo>
                  <a:pt x="2140" y="651"/>
                </a:lnTo>
                <a:lnTo>
                  <a:pt x="2143" y="617"/>
                </a:lnTo>
                <a:lnTo>
                  <a:pt x="2143" y="589"/>
                </a:lnTo>
                <a:lnTo>
                  <a:pt x="2126" y="631"/>
                </a:lnTo>
                <a:lnTo>
                  <a:pt x="2113" y="662"/>
                </a:lnTo>
                <a:lnTo>
                  <a:pt x="2100" y="686"/>
                </a:lnTo>
                <a:lnTo>
                  <a:pt x="2090" y="706"/>
                </a:lnTo>
                <a:lnTo>
                  <a:pt x="2081" y="727"/>
                </a:lnTo>
                <a:lnTo>
                  <a:pt x="2071" y="744"/>
                </a:lnTo>
                <a:lnTo>
                  <a:pt x="2054" y="765"/>
                </a:lnTo>
                <a:lnTo>
                  <a:pt x="2038" y="789"/>
                </a:lnTo>
                <a:lnTo>
                  <a:pt x="1946" y="844"/>
                </a:lnTo>
                <a:lnTo>
                  <a:pt x="1950" y="779"/>
                </a:lnTo>
                <a:lnTo>
                  <a:pt x="1911" y="858"/>
                </a:lnTo>
                <a:lnTo>
                  <a:pt x="1875" y="879"/>
                </a:lnTo>
                <a:lnTo>
                  <a:pt x="1835" y="906"/>
                </a:lnTo>
                <a:lnTo>
                  <a:pt x="1789" y="934"/>
                </a:lnTo>
                <a:lnTo>
                  <a:pt x="1744" y="961"/>
                </a:lnTo>
                <a:lnTo>
                  <a:pt x="1701" y="989"/>
                </a:lnTo>
                <a:lnTo>
                  <a:pt x="1662" y="1017"/>
                </a:lnTo>
                <a:lnTo>
                  <a:pt x="1629" y="1037"/>
                </a:lnTo>
                <a:lnTo>
                  <a:pt x="1603" y="1054"/>
                </a:lnTo>
                <a:lnTo>
                  <a:pt x="1606" y="1061"/>
                </a:lnTo>
                <a:lnTo>
                  <a:pt x="1613" y="1079"/>
                </a:lnTo>
                <a:lnTo>
                  <a:pt x="1619" y="1099"/>
                </a:lnTo>
                <a:lnTo>
                  <a:pt x="1632" y="1127"/>
                </a:lnTo>
                <a:lnTo>
                  <a:pt x="1665" y="1120"/>
                </a:lnTo>
                <a:lnTo>
                  <a:pt x="1701" y="1116"/>
                </a:lnTo>
                <a:lnTo>
                  <a:pt x="1740" y="1116"/>
                </a:lnTo>
                <a:lnTo>
                  <a:pt x="1783" y="1120"/>
                </a:lnTo>
                <a:lnTo>
                  <a:pt x="1825" y="1123"/>
                </a:lnTo>
                <a:lnTo>
                  <a:pt x="1868" y="1134"/>
                </a:lnTo>
                <a:lnTo>
                  <a:pt x="1914" y="1144"/>
                </a:lnTo>
                <a:lnTo>
                  <a:pt x="1960" y="1158"/>
                </a:lnTo>
                <a:lnTo>
                  <a:pt x="2002" y="1175"/>
                </a:lnTo>
                <a:lnTo>
                  <a:pt x="2048" y="1189"/>
                </a:lnTo>
                <a:lnTo>
                  <a:pt x="2090" y="1210"/>
                </a:lnTo>
                <a:lnTo>
                  <a:pt x="2130" y="1227"/>
                </a:lnTo>
                <a:lnTo>
                  <a:pt x="2169" y="1247"/>
                </a:lnTo>
                <a:lnTo>
                  <a:pt x="2208" y="1268"/>
                </a:lnTo>
                <a:lnTo>
                  <a:pt x="2241" y="1285"/>
                </a:lnTo>
                <a:lnTo>
                  <a:pt x="2270" y="1306"/>
                </a:lnTo>
                <a:lnTo>
                  <a:pt x="2293" y="1323"/>
                </a:lnTo>
                <a:lnTo>
                  <a:pt x="2313" y="1340"/>
                </a:lnTo>
                <a:lnTo>
                  <a:pt x="2336" y="1358"/>
                </a:lnTo>
                <a:lnTo>
                  <a:pt x="2355" y="1371"/>
                </a:lnTo>
                <a:lnTo>
                  <a:pt x="2372" y="1389"/>
                </a:lnTo>
                <a:lnTo>
                  <a:pt x="2385" y="1403"/>
                </a:lnTo>
                <a:lnTo>
                  <a:pt x="2398" y="1420"/>
                </a:lnTo>
                <a:lnTo>
                  <a:pt x="2408" y="1434"/>
                </a:lnTo>
                <a:lnTo>
                  <a:pt x="2395" y="1427"/>
                </a:lnTo>
                <a:lnTo>
                  <a:pt x="2378" y="1427"/>
                </a:lnTo>
                <a:lnTo>
                  <a:pt x="2359" y="1423"/>
                </a:lnTo>
                <a:lnTo>
                  <a:pt x="2339" y="1423"/>
                </a:lnTo>
                <a:lnTo>
                  <a:pt x="2323" y="1427"/>
                </a:lnTo>
                <a:lnTo>
                  <a:pt x="2306" y="1430"/>
                </a:lnTo>
                <a:lnTo>
                  <a:pt x="2290" y="1434"/>
                </a:lnTo>
                <a:lnTo>
                  <a:pt x="2280" y="1437"/>
                </a:lnTo>
                <a:lnTo>
                  <a:pt x="2297" y="1458"/>
                </a:lnTo>
                <a:lnTo>
                  <a:pt x="2316" y="1482"/>
                </a:lnTo>
                <a:lnTo>
                  <a:pt x="2333" y="1502"/>
                </a:lnTo>
                <a:lnTo>
                  <a:pt x="2339" y="1513"/>
                </a:lnTo>
                <a:lnTo>
                  <a:pt x="2280" y="1489"/>
                </a:lnTo>
                <a:lnTo>
                  <a:pt x="2267" y="1475"/>
                </a:lnTo>
                <a:lnTo>
                  <a:pt x="2254" y="1461"/>
                </a:lnTo>
                <a:lnTo>
                  <a:pt x="2241" y="1447"/>
                </a:lnTo>
                <a:lnTo>
                  <a:pt x="2225" y="1430"/>
                </a:lnTo>
                <a:lnTo>
                  <a:pt x="2208" y="1416"/>
                </a:lnTo>
                <a:lnTo>
                  <a:pt x="2189" y="1399"/>
                </a:lnTo>
                <a:lnTo>
                  <a:pt x="2166" y="1385"/>
                </a:lnTo>
                <a:lnTo>
                  <a:pt x="2140" y="1368"/>
                </a:lnTo>
                <a:lnTo>
                  <a:pt x="2153" y="1385"/>
                </a:lnTo>
                <a:lnTo>
                  <a:pt x="2166" y="1403"/>
                </a:lnTo>
                <a:lnTo>
                  <a:pt x="2175" y="1420"/>
                </a:lnTo>
                <a:lnTo>
                  <a:pt x="2179" y="1437"/>
                </a:lnTo>
                <a:lnTo>
                  <a:pt x="2104" y="1420"/>
                </a:lnTo>
                <a:lnTo>
                  <a:pt x="2084" y="1396"/>
                </a:lnTo>
                <a:lnTo>
                  <a:pt x="2068" y="1375"/>
                </a:lnTo>
                <a:lnTo>
                  <a:pt x="2048" y="1361"/>
                </a:lnTo>
                <a:lnTo>
                  <a:pt x="2032" y="1347"/>
                </a:lnTo>
                <a:lnTo>
                  <a:pt x="2012" y="1334"/>
                </a:lnTo>
                <a:lnTo>
                  <a:pt x="1989" y="1323"/>
                </a:lnTo>
                <a:lnTo>
                  <a:pt x="1960" y="1306"/>
                </a:lnTo>
                <a:lnTo>
                  <a:pt x="1927" y="1289"/>
                </a:lnTo>
                <a:lnTo>
                  <a:pt x="1946" y="1313"/>
                </a:lnTo>
                <a:lnTo>
                  <a:pt x="1963" y="1340"/>
                </a:lnTo>
                <a:lnTo>
                  <a:pt x="1976" y="1371"/>
                </a:lnTo>
                <a:lnTo>
                  <a:pt x="1982" y="1399"/>
                </a:lnTo>
                <a:lnTo>
                  <a:pt x="1956" y="1392"/>
                </a:lnTo>
                <a:lnTo>
                  <a:pt x="1930" y="1392"/>
                </a:lnTo>
                <a:lnTo>
                  <a:pt x="1901" y="1392"/>
                </a:lnTo>
                <a:lnTo>
                  <a:pt x="1871" y="1392"/>
                </a:lnTo>
                <a:lnTo>
                  <a:pt x="1842" y="1399"/>
                </a:lnTo>
                <a:lnTo>
                  <a:pt x="1809" y="1406"/>
                </a:lnTo>
                <a:lnTo>
                  <a:pt x="1780" y="1416"/>
                </a:lnTo>
                <a:lnTo>
                  <a:pt x="1747" y="1427"/>
                </a:lnTo>
                <a:lnTo>
                  <a:pt x="1734" y="1440"/>
                </a:lnTo>
                <a:lnTo>
                  <a:pt x="1731" y="1458"/>
                </a:lnTo>
                <a:lnTo>
                  <a:pt x="1731" y="1482"/>
                </a:lnTo>
                <a:lnTo>
                  <a:pt x="1734" y="1513"/>
                </a:lnTo>
                <a:lnTo>
                  <a:pt x="1652" y="1533"/>
                </a:lnTo>
                <a:lnTo>
                  <a:pt x="1672" y="1564"/>
                </a:lnTo>
                <a:lnTo>
                  <a:pt x="1685" y="1592"/>
                </a:lnTo>
                <a:lnTo>
                  <a:pt x="1691" y="1613"/>
                </a:lnTo>
                <a:lnTo>
                  <a:pt x="1691" y="1623"/>
                </a:lnTo>
                <a:lnTo>
                  <a:pt x="1603" y="1585"/>
                </a:lnTo>
                <a:lnTo>
                  <a:pt x="1646" y="1640"/>
                </a:lnTo>
                <a:lnTo>
                  <a:pt x="1685" y="1699"/>
                </a:lnTo>
                <a:lnTo>
                  <a:pt x="1724" y="1761"/>
                </a:lnTo>
                <a:lnTo>
                  <a:pt x="1763" y="1826"/>
                </a:lnTo>
                <a:lnTo>
                  <a:pt x="1803" y="1899"/>
                </a:lnTo>
                <a:lnTo>
                  <a:pt x="1839" y="1971"/>
                </a:lnTo>
                <a:lnTo>
                  <a:pt x="1875" y="2047"/>
                </a:lnTo>
                <a:lnTo>
                  <a:pt x="1911" y="2126"/>
                </a:lnTo>
                <a:lnTo>
                  <a:pt x="1930" y="2168"/>
                </a:lnTo>
                <a:lnTo>
                  <a:pt x="1946" y="2209"/>
                </a:lnTo>
                <a:lnTo>
                  <a:pt x="1963" y="2254"/>
                </a:lnTo>
                <a:lnTo>
                  <a:pt x="1982" y="2295"/>
                </a:lnTo>
                <a:lnTo>
                  <a:pt x="1999" y="2340"/>
                </a:lnTo>
                <a:lnTo>
                  <a:pt x="2015" y="2385"/>
                </a:lnTo>
                <a:lnTo>
                  <a:pt x="2028" y="2426"/>
                </a:lnTo>
                <a:lnTo>
                  <a:pt x="2045" y="2471"/>
                </a:lnTo>
                <a:lnTo>
                  <a:pt x="2104" y="2643"/>
                </a:lnTo>
                <a:lnTo>
                  <a:pt x="2159" y="2815"/>
                </a:lnTo>
                <a:lnTo>
                  <a:pt x="2211" y="2984"/>
                </a:lnTo>
                <a:lnTo>
                  <a:pt x="2254" y="3146"/>
                </a:lnTo>
                <a:lnTo>
                  <a:pt x="2293" y="3301"/>
                </a:lnTo>
                <a:lnTo>
                  <a:pt x="2326" y="3446"/>
                </a:lnTo>
                <a:lnTo>
                  <a:pt x="2352" y="3577"/>
                </a:lnTo>
                <a:lnTo>
                  <a:pt x="2372" y="3687"/>
                </a:lnTo>
                <a:lnTo>
                  <a:pt x="2388" y="3822"/>
                </a:lnTo>
                <a:lnTo>
                  <a:pt x="2404" y="3980"/>
                </a:lnTo>
                <a:lnTo>
                  <a:pt x="2418" y="4152"/>
                </a:lnTo>
                <a:lnTo>
                  <a:pt x="2424" y="4345"/>
                </a:lnTo>
                <a:lnTo>
                  <a:pt x="2427" y="4442"/>
                </a:lnTo>
                <a:lnTo>
                  <a:pt x="2427" y="4542"/>
                </a:lnTo>
                <a:lnTo>
                  <a:pt x="2424" y="4645"/>
                </a:lnTo>
                <a:lnTo>
                  <a:pt x="2421" y="4752"/>
                </a:lnTo>
                <a:lnTo>
                  <a:pt x="2228" y="4752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324000">
            <a:off x="7635960" y="2420640"/>
            <a:ext cx="1400040" cy="3292560"/>
          </a:xfrm>
          <a:custGeom>
            <a:avLst/>
            <a:gdLst/>
            <a:ahLst/>
            <a:rect l="l" t="t" r="r" b="b"/>
            <a:pathLst>
              <a:path w="2205" h="4221">
                <a:moveTo>
                  <a:pt x="582" y="4221"/>
                </a:moveTo>
                <a:lnTo>
                  <a:pt x="726" y="3849"/>
                </a:lnTo>
                <a:lnTo>
                  <a:pt x="831" y="3484"/>
                </a:lnTo>
                <a:lnTo>
                  <a:pt x="906" y="3129"/>
                </a:lnTo>
                <a:lnTo>
                  <a:pt x="949" y="2787"/>
                </a:lnTo>
                <a:lnTo>
                  <a:pt x="968" y="2457"/>
                </a:lnTo>
                <a:lnTo>
                  <a:pt x="965" y="2147"/>
                </a:lnTo>
                <a:lnTo>
                  <a:pt x="942" y="1854"/>
                </a:lnTo>
                <a:lnTo>
                  <a:pt x="906" y="1581"/>
                </a:lnTo>
                <a:lnTo>
                  <a:pt x="952" y="1592"/>
                </a:lnTo>
                <a:lnTo>
                  <a:pt x="998" y="1606"/>
                </a:lnTo>
                <a:lnTo>
                  <a:pt x="1047" y="1619"/>
                </a:lnTo>
                <a:lnTo>
                  <a:pt x="1093" y="1637"/>
                </a:lnTo>
                <a:lnTo>
                  <a:pt x="1139" y="1657"/>
                </a:lnTo>
                <a:lnTo>
                  <a:pt x="1184" y="1678"/>
                </a:lnTo>
                <a:lnTo>
                  <a:pt x="1233" y="1702"/>
                </a:lnTo>
                <a:lnTo>
                  <a:pt x="1279" y="1730"/>
                </a:lnTo>
                <a:lnTo>
                  <a:pt x="1325" y="1757"/>
                </a:lnTo>
                <a:lnTo>
                  <a:pt x="1374" y="1792"/>
                </a:lnTo>
                <a:lnTo>
                  <a:pt x="1420" y="1826"/>
                </a:lnTo>
                <a:lnTo>
                  <a:pt x="1466" y="1867"/>
                </a:lnTo>
                <a:lnTo>
                  <a:pt x="1511" y="1909"/>
                </a:lnTo>
                <a:lnTo>
                  <a:pt x="1557" y="1957"/>
                </a:lnTo>
                <a:lnTo>
                  <a:pt x="1600" y="2009"/>
                </a:lnTo>
                <a:lnTo>
                  <a:pt x="1646" y="2064"/>
                </a:lnTo>
                <a:lnTo>
                  <a:pt x="1649" y="2036"/>
                </a:lnTo>
                <a:lnTo>
                  <a:pt x="1642" y="2005"/>
                </a:lnTo>
                <a:lnTo>
                  <a:pt x="1629" y="1978"/>
                </a:lnTo>
                <a:lnTo>
                  <a:pt x="1610" y="1954"/>
                </a:lnTo>
                <a:lnTo>
                  <a:pt x="1642" y="1967"/>
                </a:lnTo>
                <a:lnTo>
                  <a:pt x="1675" y="1988"/>
                </a:lnTo>
                <a:lnTo>
                  <a:pt x="1711" y="2009"/>
                </a:lnTo>
                <a:lnTo>
                  <a:pt x="1744" y="2033"/>
                </a:lnTo>
                <a:lnTo>
                  <a:pt x="1780" y="2057"/>
                </a:lnTo>
                <a:lnTo>
                  <a:pt x="1812" y="2084"/>
                </a:lnTo>
                <a:lnTo>
                  <a:pt x="1842" y="2112"/>
                </a:lnTo>
                <a:lnTo>
                  <a:pt x="1868" y="2143"/>
                </a:lnTo>
                <a:lnTo>
                  <a:pt x="1855" y="2071"/>
                </a:lnTo>
                <a:lnTo>
                  <a:pt x="1842" y="1988"/>
                </a:lnTo>
                <a:lnTo>
                  <a:pt x="1829" y="1909"/>
                </a:lnTo>
                <a:lnTo>
                  <a:pt x="1822" y="1857"/>
                </a:lnTo>
                <a:lnTo>
                  <a:pt x="1803" y="1850"/>
                </a:lnTo>
                <a:lnTo>
                  <a:pt x="1780" y="1840"/>
                </a:lnTo>
                <a:lnTo>
                  <a:pt x="1754" y="1829"/>
                </a:lnTo>
                <a:lnTo>
                  <a:pt x="1734" y="1819"/>
                </a:lnTo>
                <a:lnTo>
                  <a:pt x="1754" y="1812"/>
                </a:lnTo>
                <a:lnTo>
                  <a:pt x="1767" y="1809"/>
                </a:lnTo>
                <a:lnTo>
                  <a:pt x="1783" y="1802"/>
                </a:lnTo>
                <a:lnTo>
                  <a:pt x="1799" y="1798"/>
                </a:lnTo>
                <a:lnTo>
                  <a:pt x="1783" y="1764"/>
                </a:lnTo>
                <a:lnTo>
                  <a:pt x="1767" y="1730"/>
                </a:lnTo>
                <a:lnTo>
                  <a:pt x="1750" y="1702"/>
                </a:lnTo>
                <a:lnTo>
                  <a:pt x="1731" y="1674"/>
                </a:lnTo>
                <a:lnTo>
                  <a:pt x="1704" y="1678"/>
                </a:lnTo>
                <a:lnTo>
                  <a:pt x="1675" y="1685"/>
                </a:lnTo>
                <a:lnTo>
                  <a:pt x="1649" y="1692"/>
                </a:lnTo>
                <a:lnTo>
                  <a:pt x="1619" y="1699"/>
                </a:lnTo>
                <a:lnTo>
                  <a:pt x="1593" y="1705"/>
                </a:lnTo>
                <a:lnTo>
                  <a:pt x="1567" y="1709"/>
                </a:lnTo>
                <a:lnTo>
                  <a:pt x="1541" y="1709"/>
                </a:lnTo>
                <a:lnTo>
                  <a:pt x="1518" y="1705"/>
                </a:lnTo>
                <a:lnTo>
                  <a:pt x="1538" y="1695"/>
                </a:lnTo>
                <a:lnTo>
                  <a:pt x="1557" y="1681"/>
                </a:lnTo>
                <a:lnTo>
                  <a:pt x="1577" y="1671"/>
                </a:lnTo>
                <a:lnTo>
                  <a:pt x="1600" y="1661"/>
                </a:lnTo>
                <a:lnTo>
                  <a:pt x="1619" y="1650"/>
                </a:lnTo>
                <a:lnTo>
                  <a:pt x="1642" y="1643"/>
                </a:lnTo>
                <a:lnTo>
                  <a:pt x="1665" y="1640"/>
                </a:lnTo>
                <a:lnTo>
                  <a:pt x="1685" y="1637"/>
                </a:lnTo>
                <a:lnTo>
                  <a:pt x="1639" y="1581"/>
                </a:lnTo>
                <a:lnTo>
                  <a:pt x="1646" y="1540"/>
                </a:lnTo>
                <a:lnTo>
                  <a:pt x="1636" y="1533"/>
                </a:lnTo>
                <a:lnTo>
                  <a:pt x="1623" y="1526"/>
                </a:lnTo>
                <a:lnTo>
                  <a:pt x="1606" y="1516"/>
                </a:lnTo>
                <a:lnTo>
                  <a:pt x="1593" y="1509"/>
                </a:lnTo>
                <a:lnTo>
                  <a:pt x="1577" y="1502"/>
                </a:lnTo>
                <a:lnTo>
                  <a:pt x="1564" y="1495"/>
                </a:lnTo>
                <a:lnTo>
                  <a:pt x="1551" y="1492"/>
                </a:lnTo>
                <a:lnTo>
                  <a:pt x="1541" y="1488"/>
                </a:lnTo>
                <a:lnTo>
                  <a:pt x="1508" y="1512"/>
                </a:lnTo>
                <a:lnTo>
                  <a:pt x="1469" y="1537"/>
                </a:lnTo>
                <a:lnTo>
                  <a:pt x="1423" y="1557"/>
                </a:lnTo>
                <a:lnTo>
                  <a:pt x="1377" y="1578"/>
                </a:lnTo>
                <a:lnTo>
                  <a:pt x="1332" y="1599"/>
                </a:lnTo>
                <a:lnTo>
                  <a:pt x="1286" y="1612"/>
                </a:lnTo>
                <a:lnTo>
                  <a:pt x="1240" y="1619"/>
                </a:lnTo>
                <a:lnTo>
                  <a:pt x="1201" y="1619"/>
                </a:lnTo>
                <a:lnTo>
                  <a:pt x="1233" y="1602"/>
                </a:lnTo>
                <a:lnTo>
                  <a:pt x="1266" y="1585"/>
                </a:lnTo>
                <a:lnTo>
                  <a:pt x="1299" y="1568"/>
                </a:lnTo>
                <a:lnTo>
                  <a:pt x="1332" y="1550"/>
                </a:lnTo>
                <a:lnTo>
                  <a:pt x="1364" y="1530"/>
                </a:lnTo>
                <a:lnTo>
                  <a:pt x="1394" y="1509"/>
                </a:lnTo>
                <a:lnTo>
                  <a:pt x="1423" y="1481"/>
                </a:lnTo>
                <a:lnTo>
                  <a:pt x="1449" y="1450"/>
                </a:lnTo>
                <a:lnTo>
                  <a:pt x="1361" y="1406"/>
                </a:lnTo>
                <a:lnTo>
                  <a:pt x="1371" y="1361"/>
                </a:lnTo>
                <a:lnTo>
                  <a:pt x="1299" y="1344"/>
                </a:lnTo>
                <a:lnTo>
                  <a:pt x="1286" y="1354"/>
                </a:lnTo>
                <a:lnTo>
                  <a:pt x="1273" y="1361"/>
                </a:lnTo>
                <a:lnTo>
                  <a:pt x="1263" y="1371"/>
                </a:lnTo>
                <a:lnTo>
                  <a:pt x="1250" y="1378"/>
                </a:lnTo>
                <a:lnTo>
                  <a:pt x="1237" y="1385"/>
                </a:lnTo>
                <a:lnTo>
                  <a:pt x="1227" y="1392"/>
                </a:lnTo>
                <a:lnTo>
                  <a:pt x="1214" y="1399"/>
                </a:lnTo>
                <a:lnTo>
                  <a:pt x="1201" y="1402"/>
                </a:lnTo>
                <a:lnTo>
                  <a:pt x="1119" y="1347"/>
                </a:lnTo>
                <a:lnTo>
                  <a:pt x="1139" y="1319"/>
                </a:lnTo>
                <a:lnTo>
                  <a:pt x="1158" y="1292"/>
                </a:lnTo>
                <a:lnTo>
                  <a:pt x="1184" y="1268"/>
                </a:lnTo>
                <a:lnTo>
                  <a:pt x="1207" y="1247"/>
                </a:lnTo>
                <a:lnTo>
                  <a:pt x="1194" y="1247"/>
                </a:lnTo>
                <a:lnTo>
                  <a:pt x="1178" y="1247"/>
                </a:lnTo>
                <a:lnTo>
                  <a:pt x="1161" y="1244"/>
                </a:lnTo>
                <a:lnTo>
                  <a:pt x="1145" y="1240"/>
                </a:lnTo>
                <a:lnTo>
                  <a:pt x="1129" y="1240"/>
                </a:lnTo>
                <a:lnTo>
                  <a:pt x="1112" y="1237"/>
                </a:lnTo>
                <a:lnTo>
                  <a:pt x="1099" y="1233"/>
                </a:lnTo>
                <a:lnTo>
                  <a:pt x="1089" y="1233"/>
                </a:lnTo>
                <a:lnTo>
                  <a:pt x="1116" y="1216"/>
                </a:lnTo>
                <a:lnTo>
                  <a:pt x="1145" y="1199"/>
                </a:lnTo>
                <a:lnTo>
                  <a:pt x="1178" y="1189"/>
                </a:lnTo>
                <a:lnTo>
                  <a:pt x="1207" y="1178"/>
                </a:lnTo>
                <a:lnTo>
                  <a:pt x="1237" y="1171"/>
                </a:lnTo>
                <a:lnTo>
                  <a:pt x="1266" y="1168"/>
                </a:lnTo>
                <a:lnTo>
                  <a:pt x="1292" y="1164"/>
                </a:lnTo>
                <a:lnTo>
                  <a:pt x="1312" y="1164"/>
                </a:lnTo>
                <a:lnTo>
                  <a:pt x="1328" y="1137"/>
                </a:lnTo>
                <a:lnTo>
                  <a:pt x="1351" y="1116"/>
                </a:lnTo>
                <a:lnTo>
                  <a:pt x="1371" y="1099"/>
                </a:lnTo>
                <a:lnTo>
                  <a:pt x="1371" y="1099"/>
                </a:lnTo>
                <a:lnTo>
                  <a:pt x="1364" y="1127"/>
                </a:lnTo>
                <a:lnTo>
                  <a:pt x="1361" y="1140"/>
                </a:lnTo>
                <a:lnTo>
                  <a:pt x="1358" y="1151"/>
                </a:lnTo>
                <a:lnTo>
                  <a:pt x="1358" y="1171"/>
                </a:lnTo>
                <a:lnTo>
                  <a:pt x="1374" y="1175"/>
                </a:lnTo>
                <a:lnTo>
                  <a:pt x="1390" y="1178"/>
                </a:lnTo>
                <a:lnTo>
                  <a:pt x="1404" y="1182"/>
                </a:lnTo>
                <a:lnTo>
                  <a:pt x="1417" y="1185"/>
                </a:lnTo>
                <a:lnTo>
                  <a:pt x="1430" y="1189"/>
                </a:lnTo>
                <a:lnTo>
                  <a:pt x="1443" y="1189"/>
                </a:lnTo>
                <a:lnTo>
                  <a:pt x="1456" y="1192"/>
                </a:lnTo>
                <a:lnTo>
                  <a:pt x="1466" y="1195"/>
                </a:lnTo>
                <a:lnTo>
                  <a:pt x="1495" y="1189"/>
                </a:lnTo>
                <a:lnTo>
                  <a:pt x="1521" y="1182"/>
                </a:lnTo>
                <a:lnTo>
                  <a:pt x="1547" y="1178"/>
                </a:lnTo>
                <a:lnTo>
                  <a:pt x="1574" y="1175"/>
                </a:lnTo>
                <a:lnTo>
                  <a:pt x="1600" y="1175"/>
                </a:lnTo>
                <a:lnTo>
                  <a:pt x="1629" y="1178"/>
                </a:lnTo>
                <a:lnTo>
                  <a:pt x="1659" y="1189"/>
                </a:lnTo>
                <a:lnTo>
                  <a:pt x="1695" y="1199"/>
                </a:lnTo>
                <a:lnTo>
                  <a:pt x="1672" y="1195"/>
                </a:lnTo>
                <a:lnTo>
                  <a:pt x="1649" y="1195"/>
                </a:lnTo>
                <a:lnTo>
                  <a:pt x="1623" y="1199"/>
                </a:lnTo>
                <a:lnTo>
                  <a:pt x="1600" y="1202"/>
                </a:lnTo>
                <a:lnTo>
                  <a:pt x="1577" y="1209"/>
                </a:lnTo>
                <a:lnTo>
                  <a:pt x="1554" y="1216"/>
                </a:lnTo>
                <a:lnTo>
                  <a:pt x="1538" y="1223"/>
                </a:lnTo>
                <a:lnTo>
                  <a:pt x="1521" y="1230"/>
                </a:lnTo>
                <a:lnTo>
                  <a:pt x="1561" y="1233"/>
                </a:lnTo>
                <a:lnTo>
                  <a:pt x="1600" y="1237"/>
                </a:lnTo>
                <a:lnTo>
                  <a:pt x="1639" y="1240"/>
                </a:lnTo>
                <a:lnTo>
                  <a:pt x="1678" y="1247"/>
                </a:lnTo>
                <a:lnTo>
                  <a:pt x="1721" y="1254"/>
                </a:lnTo>
                <a:lnTo>
                  <a:pt x="1763" y="1264"/>
                </a:lnTo>
                <a:lnTo>
                  <a:pt x="1806" y="1275"/>
                </a:lnTo>
                <a:lnTo>
                  <a:pt x="1848" y="1285"/>
                </a:lnTo>
                <a:lnTo>
                  <a:pt x="1891" y="1299"/>
                </a:lnTo>
                <a:lnTo>
                  <a:pt x="1937" y="1316"/>
                </a:lnTo>
                <a:lnTo>
                  <a:pt x="1979" y="1333"/>
                </a:lnTo>
                <a:lnTo>
                  <a:pt x="2025" y="1351"/>
                </a:lnTo>
                <a:lnTo>
                  <a:pt x="2071" y="1371"/>
                </a:lnTo>
                <a:lnTo>
                  <a:pt x="2113" y="1392"/>
                </a:lnTo>
                <a:lnTo>
                  <a:pt x="2159" y="1416"/>
                </a:lnTo>
                <a:lnTo>
                  <a:pt x="2205" y="1440"/>
                </a:lnTo>
                <a:lnTo>
                  <a:pt x="2182" y="1416"/>
                </a:lnTo>
                <a:lnTo>
                  <a:pt x="2149" y="1385"/>
                </a:lnTo>
                <a:lnTo>
                  <a:pt x="2113" y="1347"/>
                </a:lnTo>
                <a:lnTo>
                  <a:pt x="2071" y="1309"/>
                </a:lnTo>
                <a:lnTo>
                  <a:pt x="2025" y="1275"/>
                </a:lnTo>
                <a:lnTo>
                  <a:pt x="1976" y="1240"/>
                </a:lnTo>
                <a:lnTo>
                  <a:pt x="1930" y="1213"/>
                </a:lnTo>
                <a:lnTo>
                  <a:pt x="1881" y="1192"/>
                </a:lnTo>
                <a:lnTo>
                  <a:pt x="1884" y="1192"/>
                </a:lnTo>
                <a:lnTo>
                  <a:pt x="1897" y="1195"/>
                </a:lnTo>
                <a:lnTo>
                  <a:pt x="1914" y="1195"/>
                </a:lnTo>
                <a:lnTo>
                  <a:pt x="1937" y="1199"/>
                </a:lnTo>
                <a:lnTo>
                  <a:pt x="1960" y="1202"/>
                </a:lnTo>
                <a:lnTo>
                  <a:pt x="1983" y="1209"/>
                </a:lnTo>
                <a:lnTo>
                  <a:pt x="2005" y="1213"/>
                </a:lnTo>
                <a:lnTo>
                  <a:pt x="2025" y="1220"/>
                </a:lnTo>
                <a:lnTo>
                  <a:pt x="1996" y="1192"/>
                </a:lnTo>
                <a:lnTo>
                  <a:pt x="1963" y="1161"/>
                </a:lnTo>
                <a:lnTo>
                  <a:pt x="1933" y="1130"/>
                </a:lnTo>
                <a:lnTo>
                  <a:pt x="1907" y="1102"/>
                </a:lnTo>
                <a:lnTo>
                  <a:pt x="1881" y="1075"/>
                </a:lnTo>
                <a:lnTo>
                  <a:pt x="1855" y="1047"/>
                </a:lnTo>
                <a:lnTo>
                  <a:pt x="1835" y="1027"/>
                </a:lnTo>
                <a:lnTo>
                  <a:pt x="1819" y="1009"/>
                </a:lnTo>
                <a:lnTo>
                  <a:pt x="1767" y="1009"/>
                </a:lnTo>
                <a:lnTo>
                  <a:pt x="1718" y="1009"/>
                </a:lnTo>
                <a:lnTo>
                  <a:pt x="1668" y="1009"/>
                </a:lnTo>
                <a:lnTo>
                  <a:pt x="1623" y="1009"/>
                </a:lnTo>
                <a:lnTo>
                  <a:pt x="1580" y="1016"/>
                </a:lnTo>
                <a:lnTo>
                  <a:pt x="1541" y="1027"/>
                </a:lnTo>
                <a:lnTo>
                  <a:pt x="1498" y="1047"/>
                </a:lnTo>
                <a:lnTo>
                  <a:pt x="1462" y="1078"/>
                </a:lnTo>
                <a:lnTo>
                  <a:pt x="1469" y="1054"/>
                </a:lnTo>
                <a:lnTo>
                  <a:pt x="1479" y="1033"/>
                </a:lnTo>
                <a:lnTo>
                  <a:pt x="1492" y="1016"/>
                </a:lnTo>
                <a:lnTo>
                  <a:pt x="1511" y="1002"/>
                </a:lnTo>
                <a:lnTo>
                  <a:pt x="1528" y="989"/>
                </a:lnTo>
                <a:lnTo>
                  <a:pt x="1544" y="978"/>
                </a:lnTo>
                <a:lnTo>
                  <a:pt x="1561" y="968"/>
                </a:lnTo>
                <a:lnTo>
                  <a:pt x="1577" y="958"/>
                </a:lnTo>
                <a:lnTo>
                  <a:pt x="1603" y="947"/>
                </a:lnTo>
                <a:lnTo>
                  <a:pt x="1629" y="937"/>
                </a:lnTo>
                <a:lnTo>
                  <a:pt x="1652" y="930"/>
                </a:lnTo>
                <a:lnTo>
                  <a:pt x="1675" y="923"/>
                </a:lnTo>
                <a:lnTo>
                  <a:pt x="1698" y="923"/>
                </a:lnTo>
                <a:lnTo>
                  <a:pt x="1721" y="920"/>
                </a:lnTo>
                <a:lnTo>
                  <a:pt x="1740" y="920"/>
                </a:lnTo>
                <a:lnTo>
                  <a:pt x="1763" y="923"/>
                </a:lnTo>
                <a:lnTo>
                  <a:pt x="1744" y="903"/>
                </a:lnTo>
                <a:lnTo>
                  <a:pt x="1721" y="875"/>
                </a:lnTo>
                <a:lnTo>
                  <a:pt x="1701" y="854"/>
                </a:lnTo>
                <a:lnTo>
                  <a:pt x="1691" y="847"/>
                </a:lnTo>
                <a:lnTo>
                  <a:pt x="1639" y="834"/>
                </a:lnTo>
                <a:lnTo>
                  <a:pt x="1613" y="796"/>
                </a:lnTo>
                <a:lnTo>
                  <a:pt x="1557" y="799"/>
                </a:lnTo>
                <a:lnTo>
                  <a:pt x="1475" y="816"/>
                </a:lnTo>
                <a:lnTo>
                  <a:pt x="1456" y="823"/>
                </a:lnTo>
                <a:lnTo>
                  <a:pt x="1436" y="834"/>
                </a:lnTo>
                <a:lnTo>
                  <a:pt x="1423" y="844"/>
                </a:lnTo>
                <a:lnTo>
                  <a:pt x="1407" y="854"/>
                </a:lnTo>
                <a:lnTo>
                  <a:pt x="1394" y="868"/>
                </a:lnTo>
                <a:lnTo>
                  <a:pt x="1381" y="878"/>
                </a:lnTo>
                <a:lnTo>
                  <a:pt x="1364" y="892"/>
                </a:lnTo>
                <a:lnTo>
                  <a:pt x="1348" y="903"/>
                </a:lnTo>
                <a:lnTo>
                  <a:pt x="1305" y="889"/>
                </a:lnTo>
                <a:lnTo>
                  <a:pt x="1282" y="903"/>
                </a:lnTo>
                <a:lnTo>
                  <a:pt x="1260" y="920"/>
                </a:lnTo>
                <a:lnTo>
                  <a:pt x="1237" y="940"/>
                </a:lnTo>
                <a:lnTo>
                  <a:pt x="1214" y="961"/>
                </a:lnTo>
                <a:lnTo>
                  <a:pt x="1191" y="982"/>
                </a:lnTo>
                <a:lnTo>
                  <a:pt x="1168" y="1009"/>
                </a:lnTo>
                <a:lnTo>
                  <a:pt x="1142" y="1037"/>
                </a:lnTo>
                <a:lnTo>
                  <a:pt x="1116" y="1068"/>
                </a:lnTo>
                <a:lnTo>
                  <a:pt x="1021" y="1085"/>
                </a:lnTo>
                <a:lnTo>
                  <a:pt x="1073" y="1020"/>
                </a:lnTo>
                <a:lnTo>
                  <a:pt x="1132" y="968"/>
                </a:lnTo>
                <a:lnTo>
                  <a:pt x="1191" y="923"/>
                </a:lnTo>
                <a:lnTo>
                  <a:pt x="1250" y="889"/>
                </a:lnTo>
                <a:lnTo>
                  <a:pt x="1312" y="861"/>
                </a:lnTo>
                <a:lnTo>
                  <a:pt x="1371" y="840"/>
                </a:lnTo>
                <a:lnTo>
                  <a:pt x="1426" y="827"/>
                </a:lnTo>
                <a:lnTo>
                  <a:pt x="1475" y="816"/>
                </a:lnTo>
                <a:lnTo>
                  <a:pt x="1557" y="799"/>
                </a:lnTo>
                <a:lnTo>
                  <a:pt x="1564" y="782"/>
                </a:lnTo>
                <a:lnTo>
                  <a:pt x="1570" y="761"/>
                </a:lnTo>
                <a:lnTo>
                  <a:pt x="1583" y="744"/>
                </a:lnTo>
                <a:lnTo>
                  <a:pt x="1603" y="727"/>
                </a:lnTo>
                <a:lnTo>
                  <a:pt x="1580" y="734"/>
                </a:lnTo>
                <a:lnTo>
                  <a:pt x="1551" y="741"/>
                </a:lnTo>
                <a:lnTo>
                  <a:pt x="1521" y="747"/>
                </a:lnTo>
                <a:lnTo>
                  <a:pt x="1492" y="754"/>
                </a:lnTo>
                <a:lnTo>
                  <a:pt x="1459" y="758"/>
                </a:lnTo>
                <a:lnTo>
                  <a:pt x="1430" y="761"/>
                </a:lnTo>
                <a:lnTo>
                  <a:pt x="1404" y="758"/>
                </a:lnTo>
                <a:lnTo>
                  <a:pt x="1377" y="754"/>
                </a:lnTo>
                <a:lnTo>
                  <a:pt x="1420" y="747"/>
                </a:lnTo>
                <a:lnTo>
                  <a:pt x="1459" y="741"/>
                </a:lnTo>
                <a:lnTo>
                  <a:pt x="1492" y="730"/>
                </a:lnTo>
                <a:lnTo>
                  <a:pt x="1525" y="720"/>
                </a:lnTo>
                <a:lnTo>
                  <a:pt x="1551" y="713"/>
                </a:lnTo>
                <a:lnTo>
                  <a:pt x="1574" y="703"/>
                </a:lnTo>
                <a:lnTo>
                  <a:pt x="1593" y="689"/>
                </a:lnTo>
                <a:lnTo>
                  <a:pt x="1610" y="679"/>
                </a:lnTo>
                <a:lnTo>
                  <a:pt x="1659" y="610"/>
                </a:lnTo>
                <a:lnTo>
                  <a:pt x="1636" y="617"/>
                </a:lnTo>
                <a:lnTo>
                  <a:pt x="1606" y="623"/>
                </a:lnTo>
                <a:lnTo>
                  <a:pt x="1574" y="630"/>
                </a:lnTo>
                <a:lnTo>
                  <a:pt x="1541" y="634"/>
                </a:lnTo>
                <a:lnTo>
                  <a:pt x="1511" y="634"/>
                </a:lnTo>
                <a:lnTo>
                  <a:pt x="1479" y="634"/>
                </a:lnTo>
                <a:lnTo>
                  <a:pt x="1453" y="630"/>
                </a:lnTo>
                <a:lnTo>
                  <a:pt x="1433" y="627"/>
                </a:lnTo>
                <a:lnTo>
                  <a:pt x="1469" y="617"/>
                </a:lnTo>
                <a:lnTo>
                  <a:pt x="1505" y="606"/>
                </a:lnTo>
                <a:lnTo>
                  <a:pt x="1544" y="596"/>
                </a:lnTo>
                <a:lnTo>
                  <a:pt x="1580" y="582"/>
                </a:lnTo>
                <a:lnTo>
                  <a:pt x="1613" y="568"/>
                </a:lnTo>
                <a:lnTo>
                  <a:pt x="1646" y="558"/>
                </a:lnTo>
                <a:lnTo>
                  <a:pt x="1672" y="544"/>
                </a:lnTo>
                <a:lnTo>
                  <a:pt x="1691" y="530"/>
                </a:lnTo>
                <a:lnTo>
                  <a:pt x="1668" y="503"/>
                </a:lnTo>
                <a:lnTo>
                  <a:pt x="1678" y="468"/>
                </a:lnTo>
                <a:lnTo>
                  <a:pt x="1685" y="430"/>
                </a:lnTo>
                <a:lnTo>
                  <a:pt x="1688" y="393"/>
                </a:lnTo>
                <a:lnTo>
                  <a:pt x="1685" y="362"/>
                </a:lnTo>
                <a:lnTo>
                  <a:pt x="1665" y="368"/>
                </a:lnTo>
                <a:lnTo>
                  <a:pt x="1646" y="375"/>
                </a:lnTo>
                <a:lnTo>
                  <a:pt x="1626" y="379"/>
                </a:lnTo>
                <a:lnTo>
                  <a:pt x="1606" y="379"/>
                </a:lnTo>
                <a:lnTo>
                  <a:pt x="1587" y="382"/>
                </a:lnTo>
                <a:lnTo>
                  <a:pt x="1567" y="382"/>
                </a:lnTo>
                <a:lnTo>
                  <a:pt x="1551" y="379"/>
                </a:lnTo>
                <a:lnTo>
                  <a:pt x="1534" y="379"/>
                </a:lnTo>
                <a:lnTo>
                  <a:pt x="1557" y="365"/>
                </a:lnTo>
                <a:lnTo>
                  <a:pt x="1580" y="355"/>
                </a:lnTo>
                <a:lnTo>
                  <a:pt x="1603" y="344"/>
                </a:lnTo>
                <a:lnTo>
                  <a:pt x="1623" y="334"/>
                </a:lnTo>
                <a:lnTo>
                  <a:pt x="1642" y="324"/>
                </a:lnTo>
                <a:lnTo>
                  <a:pt x="1662" y="313"/>
                </a:lnTo>
                <a:lnTo>
                  <a:pt x="1675" y="306"/>
                </a:lnTo>
                <a:lnTo>
                  <a:pt x="1688" y="299"/>
                </a:lnTo>
                <a:lnTo>
                  <a:pt x="1691" y="255"/>
                </a:lnTo>
                <a:lnTo>
                  <a:pt x="1698" y="203"/>
                </a:lnTo>
                <a:lnTo>
                  <a:pt x="1704" y="155"/>
                </a:lnTo>
                <a:lnTo>
                  <a:pt x="1714" y="117"/>
                </a:lnTo>
                <a:lnTo>
                  <a:pt x="1685" y="134"/>
                </a:lnTo>
                <a:lnTo>
                  <a:pt x="1659" y="155"/>
                </a:lnTo>
                <a:lnTo>
                  <a:pt x="1629" y="179"/>
                </a:lnTo>
                <a:lnTo>
                  <a:pt x="1606" y="203"/>
                </a:lnTo>
                <a:lnTo>
                  <a:pt x="1583" y="231"/>
                </a:lnTo>
                <a:lnTo>
                  <a:pt x="1564" y="255"/>
                </a:lnTo>
                <a:lnTo>
                  <a:pt x="1551" y="282"/>
                </a:lnTo>
                <a:lnTo>
                  <a:pt x="1538" y="306"/>
                </a:lnTo>
                <a:lnTo>
                  <a:pt x="1538" y="268"/>
                </a:lnTo>
                <a:lnTo>
                  <a:pt x="1541" y="227"/>
                </a:lnTo>
                <a:lnTo>
                  <a:pt x="1547" y="193"/>
                </a:lnTo>
                <a:lnTo>
                  <a:pt x="1554" y="162"/>
                </a:lnTo>
                <a:lnTo>
                  <a:pt x="1518" y="175"/>
                </a:lnTo>
                <a:lnTo>
                  <a:pt x="1505" y="203"/>
                </a:lnTo>
                <a:lnTo>
                  <a:pt x="1489" y="234"/>
                </a:lnTo>
                <a:lnTo>
                  <a:pt x="1472" y="268"/>
                </a:lnTo>
                <a:lnTo>
                  <a:pt x="1456" y="299"/>
                </a:lnTo>
                <a:lnTo>
                  <a:pt x="1439" y="337"/>
                </a:lnTo>
                <a:lnTo>
                  <a:pt x="1423" y="372"/>
                </a:lnTo>
                <a:lnTo>
                  <a:pt x="1410" y="406"/>
                </a:lnTo>
                <a:lnTo>
                  <a:pt x="1400" y="444"/>
                </a:lnTo>
                <a:lnTo>
                  <a:pt x="1364" y="472"/>
                </a:lnTo>
                <a:lnTo>
                  <a:pt x="1364" y="430"/>
                </a:lnTo>
                <a:lnTo>
                  <a:pt x="1368" y="379"/>
                </a:lnTo>
                <a:lnTo>
                  <a:pt x="1377" y="324"/>
                </a:lnTo>
                <a:lnTo>
                  <a:pt x="1390" y="282"/>
                </a:lnTo>
                <a:lnTo>
                  <a:pt x="1335" y="324"/>
                </a:lnTo>
                <a:lnTo>
                  <a:pt x="1282" y="368"/>
                </a:lnTo>
                <a:lnTo>
                  <a:pt x="1233" y="413"/>
                </a:lnTo>
                <a:lnTo>
                  <a:pt x="1188" y="461"/>
                </a:lnTo>
                <a:lnTo>
                  <a:pt x="1145" y="517"/>
                </a:lnTo>
                <a:lnTo>
                  <a:pt x="1103" y="579"/>
                </a:lnTo>
                <a:lnTo>
                  <a:pt x="1060" y="654"/>
                </a:lnTo>
                <a:lnTo>
                  <a:pt x="1014" y="741"/>
                </a:lnTo>
                <a:lnTo>
                  <a:pt x="1037" y="672"/>
                </a:lnTo>
                <a:lnTo>
                  <a:pt x="1060" y="603"/>
                </a:lnTo>
                <a:lnTo>
                  <a:pt x="1086" y="541"/>
                </a:lnTo>
                <a:lnTo>
                  <a:pt x="1112" y="486"/>
                </a:lnTo>
                <a:lnTo>
                  <a:pt x="1139" y="434"/>
                </a:lnTo>
                <a:lnTo>
                  <a:pt x="1165" y="389"/>
                </a:lnTo>
                <a:lnTo>
                  <a:pt x="1194" y="351"/>
                </a:lnTo>
                <a:lnTo>
                  <a:pt x="1220" y="320"/>
                </a:lnTo>
                <a:lnTo>
                  <a:pt x="1197" y="289"/>
                </a:lnTo>
                <a:lnTo>
                  <a:pt x="1181" y="296"/>
                </a:lnTo>
                <a:lnTo>
                  <a:pt x="1165" y="306"/>
                </a:lnTo>
                <a:lnTo>
                  <a:pt x="1145" y="317"/>
                </a:lnTo>
                <a:lnTo>
                  <a:pt x="1132" y="327"/>
                </a:lnTo>
                <a:lnTo>
                  <a:pt x="1116" y="341"/>
                </a:lnTo>
                <a:lnTo>
                  <a:pt x="1099" y="355"/>
                </a:lnTo>
                <a:lnTo>
                  <a:pt x="1086" y="365"/>
                </a:lnTo>
                <a:lnTo>
                  <a:pt x="1073" y="379"/>
                </a:lnTo>
                <a:lnTo>
                  <a:pt x="1089" y="330"/>
                </a:lnTo>
                <a:lnTo>
                  <a:pt x="1106" y="289"/>
                </a:lnTo>
                <a:lnTo>
                  <a:pt x="1122" y="255"/>
                </a:lnTo>
                <a:lnTo>
                  <a:pt x="1139" y="224"/>
                </a:lnTo>
                <a:lnTo>
                  <a:pt x="1116" y="196"/>
                </a:lnTo>
                <a:lnTo>
                  <a:pt x="1093" y="165"/>
                </a:lnTo>
                <a:lnTo>
                  <a:pt x="1067" y="134"/>
                </a:lnTo>
                <a:lnTo>
                  <a:pt x="1040" y="103"/>
                </a:lnTo>
                <a:lnTo>
                  <a:pt x="1011" y="75"/>
                </a:lnTo>
                <a:lnTo>
                  <a:pt x="985" y="48"/>
                </a:lnTo>
                <a:lnTo>
                  <a:pt x="959" y="20"/>
                </a:lnTo>
                <a:lnTo>
                  <a:pt x="936" y="0"/>
                </a:lnTo>
                <a:lnTo>
                  <a:pt x="978" y="120"/>
                </a:lnTo>
                <a:lnTo>
                  <a:pt x="1004" y="251"/>
                </a:lnTo>
                <a:lnTo>
                  <a:pt x="1014" y="386"/>
                </a:lnTo>
                <a:lnTo>
                  <a:pt x="1014" y="520"/>
                </a:lnTo>
                <a:lnTo>
                  <a:pt x="1004" y="644"/>
                </a:lnTo>
                <a:lnTo>
                  <a:pt x="985" y="761"/>
                </a:lnTo>
                <a:lnTo>
                  <a:pt x="959" y="861"/>
                </a:lnTo>
                <a:lnTo>
                  <a:pt x="926" y="940"/>
                </a:lnTo>
                <a:lnTo>
                  <a:pt x="916" y="892"/>
                </a:lnTo>
                <a:lnTo>
                  <a:pt x="903" y="837"/>
                </a:lnTo>
                <a:lnTo>
                  <a:pt x="893" y="778"/>
                </a:lnTo>
                <a:lnTo>
                  <a:pt x="877" y="720"/>
                </a:lnTo>
                <a:lnTo>
                  <a:pt x="860" y="665"/>
                </a:lnTo>
                <a:lnTo>
                  <a:pt x="838" y="610"/>
                </a:lnTo>
                <a:lnTo>
                  <a:pt x="815" y="561"/>
                </a:lnTo>
                <a:lnTo>
                  <a:pt x="782" y="520"/>
                </a:lnTo>
                <a:lnTo>
                  <a:pt x="802" y="592"/>
                </a:lnTo>
                <a:lnTo>
                  <a:pt x="818" y="658"/>
                </a:lnTo>
                <a:lnTo>
                  <a:pt x="824" y="720"/>
                </a:lnTo>
                <a:lnTo>
                  <a:pt x="824" y="789"/>
                </a:lnTo>
                <a:lnTo>
                  <a:pt x="811" y="754"/>
                </a:lnTo>
                <a:lnTo>
                  <a:pt x="798" y="716"/>
                </a:lnTo>
                <a:lnTo>
                  <a:pt x="782" y="675"/>
                </a:lnTo>
                <a:lnTo>
                  <a:pt x="769" y="637"/>
                </a:lnTo>
                <a:lnTo>
                  <a:pt x="756" y="596"/>
                </a:lnTo>
                <a:lnTo>
                  <a:pt x="743" y="561"/>
                </a:lnTo>
                <a:lnTo>
                  <a:pt x="730" y="530"/>
                </a:lnTo>
                <a:lnTo>
                  <a:pt x="720" y="506"/>
                </a:lnTo>
                <a:lnTo>
                  <a:pt x="700" y="506"/>
                </a:lnTo>
                <a:lnTo>
                  <a:pt x="674" y="506"/>
                </a:lnTo>
                <a:lnTo>
                  <a:pt x="648" y="506"/>
                </a:lnTo>
                <a:lnTo>
                  <a:pt x="625" y="510"/>
                </a:lnTo>
                <a:lnTo>
                  <a:pt x="602" y="468"/>
                </a:lnTo>
                <a:lnTo>
                  <a:pt x="579" y="461"/>
                </a:lnTo>
                <a:lnTo>
                  <a:pt x="553" y="455"/>
                </a:lnTo>
                <a:lnTo>
                  <a:pt x="530" y="451"/>
                </a:lnTo>
                <a:lnTo>
                  <a:pt x="507" y="444"/>
                </a:lnTo>
                <a:lnTo>
                  <a:pt x="488" y="441"/>
                </a:lnTo>
                <a:lnTo>
                  <a:pt x="465" y="441"/>
                </a:lnTo>
                <a:lnTo>
                  <a:pt x="445" y="441"/>
                </a:lnTo>
                <a:lnTo>
                  <a:pt x="429" y="441"/>
                </a:lnTo>
                <a:lnTo>
                  <a:pt x="445" y="472"/>
                </a:lnTo>
                <a:lnTo>
                  <a:pt x="455" y="506"/>
                </a:lnTo>
                <a:lnTo>
                  <a:pt x="458" y="537"/>
                </a:lnTo>
                <a:lnTo>
                  <a:pt x="455" y="565"/>
                </a:lnTo>
                <a:lnTo>
                  <a:pt x="448" y="548"/>
                </a:lnTo>
                <a:lnTo>
                  <a:pt x="435" y="530"/>
                </a:lnTo>
                <a:lnTo>
                  <a:pt x="422" y="510"/>
                </a:lnTo>
                <a:lnTo>
                  <a:pt x="409" y="492"/>
                </a:lnTo>
                <a:lnTo>
                  <a:pt x="393" y="475"/>
                </a:lnTo>
                <a:lnTo>
                  <a:pt x="380" y="461"/>
                </a:lnTo>
                <a:lnTo>
                  <a:pt x="366" y="448"/>
                </a:lnTo>
                <a:lnTo>
                  <a:pt x="357" y="437"/>
                </a:lnTo>
                <a:lnTo>
                  <a:pt x="324" y="434"/>
                </a:lnTo>
                <a:lnTo>
                  <a:pt x="291" y="430"/>
                </a:lnTo>
                <a:lnTo>
                  <a:pt x="262" y="430"/>
                </a:lnTo>
                <a:lnTo>
                  <a:pt x="229" y="430"/>
                </a:lnTo>
                <a:lnTo>
                  <a:pt x="200" y="434"/>
                </a:lnTo>
                <a:lnTo>
                  <a:pt x="170" y="441"/>
                </a:lnTo>
                <a:lnTo>
                  <a:pt x="141" y="448"/>
                </a:lnTo>
                <a:lnTo>
                  <a:pt x="108" y="458"/>
                </a:lnTo>
                <a:lnTo>
                  <a:pt x="203" y="499"/>
                </a:lnTo>
                <a:lnTo>
                  <a:pt x="291" y="548"/>
                </a:lnTo>
                <a:lnTo>
                  <a:pt x="370" y="596"/>
                </a:lnTo>
                <a:lnTo>
                  <a:pt x="442" y="641"/>
                </a:lnTo>
                <a:lnTo>
                  <a:pt x="504" y="685"/>
                </a:lnTo>
                <a:lnTo>
                  <a:pt x="553" y="723"/>
                </a:lnTo>
                <a:lnTo>
                  <a:pt x="592" y="754"/>
                </a:lnTo>
                <a:lnTo>
                  <a:pt x="618" y="775"/>
                </a:lnTo>
                <a:lnTo>
                  <a:pt x="641" y="792"/>
                </a:lnTo>
                <a:lnTo>
                  <a:pt x="661" y="809"/>
                </a:lnTo>
                <a:lnTo>
                  <a:pt x="684" y="827"/>
                </a:lnTo>
                <a:lnTo>
                  <a:pt x="703" y="840"/>
                </a:lnTo>
                <a:lnTo>
                  <a:pt x="720" y="858"/>
                </a:lnTo>
                <a:lnTo>
                  <a:pt x="733" y="872"/>
                </a:lnTo>
                <a:lnTo>
                  <a:pt x="746" y="889"/>
                </a:lnTo>
                <a:lnTo>
                  <a:pt x="756" y="903"/>
                </a:lnTo>
                <a:lnTo>
                  <a:pt x="775" y="927"/>
                </a:lnTo>
                <a:lnTo>
                  <a:pt x="795" y="954"/>
                </a:lnTo>
                <a:lnTo>
                  <a:pt x="811" y="978"/>
                </a:lnTo>
                <a:lnTo>
                  <a:pt x="818" y="989"/>
                </a:lnTo>
                <a:lnTo>
                  <a:pt x="798" y="985"/>
                </a:lnTo>
                <a:lnTo>
                  <a:pt x="779" y="978"/>
                </a:lnTo>
                <a:lnTo>
                  <a:pt x="759" y="975"/>
                </a:lnTo>
                <a:lnTo>
                  <a:pt x="743" y="971"/>
                </a:lnTo>
                <a:lnTo>
                  <a:pt x="730" y="971"/>
                </a:lnTo>
                <a:lnTo>
                  <a:pt x="713" y="971"/>
                </a:lnTo>
                <a:lnTo>
                  <a:pt x="700" y="975"/>
                </a:lnTo>
                <a:lnTo>
                  <a:pt x="687" y="982"/>
                </a:lnTo>
                <a:lnTo>
                  <a:pt x="628" y="958"/>
                </a:lnTo>
                <a:lnTo>
                  <a:pt x="612" y="951"/>
                </a:lnTo>
                <a:lnTo>
                  <a:pt x="592" y="944"/>
                </a:lnTo>
                <a:lnTo>
                  <a:pt x="563" y="937"/>
                </a:lnTo>
                <a:lnTo>
                  <a:pt x="533" y="927"/>
                </a:lnTo>
                <a:lnTo>
                  <a:pt x="497" y="920"/>
                </a:lnTo>
                <a:lnTo>
                  <a:pt x="458" y="913"/>
                </a:lnTo>
                <a:lnTo>
                  <a:pt x="419" y="906"/>
                </a:lnTo>
                <a:lnTo>
                  <a:pt x="376" y="899"/>
                </a:lnTo>
                <a:lnTo>
                  <a:pt x="334" y="896"/>
                </a:lnTo>
                <a:lnTo>
                  <a:pt x="291" y="889"/>
                </a:lnTo>
                <a:lnTo>
                  <a:pt x="252" y="885"/>
                </a:lnTo>
                <a:lnTo>
                  <a:pt x="213" y="885"/>
                </a:lnTo>
                <a:lnTo>
                  <a:pt x="177" y="885"/>
                </a:lnTo>
                <a:lnTo>
                  <a:pt x="144" y="885"/>
                </a:lnTo>
                <a:lnTo>
                  <a:pt x="118" y="889"/>
                </a:lnTo>
                <a:lnTo>
                  <a:pt x="95" y="896"/>
                </a:lnTo>
                <a:lnTo>
                  <a:pt x="82" y="909"/>
                </a:lnTo>
                <a:lnTo>
                  <a:pt x="79" y="927"/>
                </a:lnTo>
                <a:lnTo>
                  <a:pt x="79" y="951"/>
                </a:lnTo>
                <a:lnTo>
                  <a:pt x="82" y="982"/>
                </a:lnTo>
                <a:lnTo>
                  <a:pt x="0" y="1002"/>
                </a:lnTo>
                <a:lnTo>
                  <a:pt x="36" y="1033"/>
                </a:lnTo>
                <a:lnTo>
                  <a:pt x="62" y="1058"/>
                </a:lnTo>
                <a:lnTo>
                  <a:pt x="85" y="1082"/>
                </a:lnTo>
                <a:lnTo>
                  <a:pt x="101" y="1099"/>
                </a:lnTo>
                <a:lnTo>
                  <a:pt x="115" y="1120"/>
                </a:lnTo>
                <a:lnTo>
                  <a:pt x="128" y="1137"/>
                </a:lnTo>
                <a:lnTo>
                  <a:pt x="141" y="1158"/>
                </a:lnTo>
                <a:lnTo>
                  <a:pt x="157" y="1182"/>
                </a:lnTo>
                <a:lnTo>
                  <a:pt x="187" y="1185"/>
                </a:lnTo>
                <a:lnTo>
                  <a:pt x="219" y="1192"/>
                </a:lnTo>
                <a:lnTo>
                  <a:pt x="249" y="1195"/>
                </a:lnTo>
                <a:lnTo>
                  <a:pt x="281" y="1202"/>
                </a:lnTo>
                <a:lnTo>
                  <a:pt x="308" y="1209"/>
                </a:lnTo>
                <a:lnTo>
                  <a:pt x="334" y="1220"/>
                </a:lnTo>
                <a:lnTo>
                  <a:pt x="357" y="1233"/>
                </a:lnTo>
                <a:lnTo>
                  <a:pt x="376" y="1247"/>
                </a:lnTo>
                <a:lnTo>
                  <a:pt x="357" y="1206"/>
                </a:lnTo>
                <a:lnTo>
                  <a:pt x="337" y="1168"/>
                </a:lnTo>
                <a:lnTo>
                  <a:pt x="311" y="1130"/>
                </a:lnTo>
                <a:lnTo>
                  <a:pt x="288" y="1102"/>
                </a:lnTo>
                <a:lnTo>
                  <a:pt x="311" y="1120"/>
                </a:lnTo>
                <a:lnTo>
                  <a:pt x="337" y="1137"/>
                </a:lnTo>
                <a:lnTo>
                  <a:pt x="357" y="1158"/>
                </a:lnTo>
                <a:lnTo>
                  <a:pt x="380" y="1178"/>
                </a:lnTo>
                <a:lnTo>
                  <a:pt x="396" y="1199"/>
                </a:lnTo>
                <a:lnTo>
                  <a:pt x="416" y="1223"/>
                </a:lnTo>
                <a:lnTo>
                  <a:pt x="429" y="1247"/>
                </a:lnTo>
                <a:lnTo>
                  <a:pt x="442" y="1271"/>
                </a:lnTo>
                <a:lnTo>
                  <a:pt x="448" y="1244"/>
                </a:lnTo>
                <a:lnTo>
                  <a:pt x="458" y="1216"/>
                </a:lnTo>
                <a:lnTo>
                  <a:pt x="461" y="1192"/>
                </a:lnTo>
                <a:lnTo>
                  <a:pt x="465" y="1168"/>
                </a:lnTo>
                <a:lnTo>
                  <a:pt x="478" y="1171"/>
                </a:lnTo>
                <a:lnTo>
                  <a:pt x="497" y="1178"/>
                </a:lnTo>
                <a:lnTo>
                  <a:pt x="520" y="1185"/>
                </a:lnTo>
                <a:lnTo>
                  <a:pt x="543" y="1195"/>
                </a:lnTo>
                <a:lnTo>
                  <a:pt x="566" y="1202"/>
                </a:lnTo>
                <a:lnTo>
                  <a:pt x="589" y="1213"/>
                </a:lnTo>
                <a:lnTo>
                  <a:pt x="609" y="1220"/>
                </a:lnTo>
                <a:lnTo>
                  <a:pt x="625" y="1223"/>
                </a:lnTo>
                <a:lnTo>
                  <a:pt x="592" y="1240"/>
                </a:lnTo>
                <a:lnTo>
                  <a:pt x="556" y="1257"/>
                </a:lnTo>
                <a:lnTo>
                  <a:pt x="520" y="1282"/>
                </a:lnTo>
                <a:lnTo>
                  <a:pt x="484" y="1309"/>
                </a:lnTo>
                <a:lnTo>
                  <a:pt x="448" y="1337"/>
                </a:lnTo>
                <a:lnTo>
                  <a:pt x="412" y="1368"/>
                </a:lnTo>
                <a:lnTo>
                  <a:pt x="376" y="1406"/>
                </a:lnTo>
                <a:lnTo>
                  <a:pt x="344" y="1444"/>
                </a:lnTo>
                <a:lnTo>
                  <a:pt x="308" y="1485"/>
                </a:lnTo>
                <a:lnTo>
                  <a:pt x="275" y="1530"/>
                </a:lnTo>
                <a:lnTo>
                  <a:pt x="239" y="1578"/>
                </a:lnTo>
                <a:lnTo>
                  <a:pt x="206" y="1630"/>
                </a:lnTo>
                <a:lnTo>
                  <a:pt x="177" y="1685"/>
                </a:lnTo>
                <a:lnTo>
                  <a:pt x="147" y="1743"/>
                </a:lnTo>
                <a:lnTo>
                  <a:pt x="118" y="1802"/>
                </a:lnTo>
                <a:lnTo>
                  <a:pt x="92" y="1867"/>
                </a:lnTo>
                <a:lnTo>
                  <a:pt x="92" y="1878"/>
                </a:lnTo>
                <a:lnTo>
                  <a:pt x="88" y="1909"/>
                </a:lnTo>
                <a:lnTo>
                  <a:pt x="92" y="1950"/>
                </a:lnTo>
                <a:lnTo>
                  <a:pt x="95" y="1995"/>
                </a:lnTo>
                <a:lnTo>
                  <a:pt x="115" y="1957"/>
                </a:lnTo>
                <a:lnTo>
                  <a:pt x="134" y="1936"/>
                </a:lnTo>
                <a:lnTo>
                  <a:pt x="154" y="1923"/>
                </a:lnTo>
                <a:lnTo>
                  <a:pt x="180" y="1912"/>
                </a:lnTo>
                <a:lnTo>
                  <a:pt x="154" y="1967"/>
                </a:lnTo>
                <a:lnTo>
                  <a:pt x="124" y="2029"/>
                </a:lnTo>
                <a:lnTo>
                  <a:pt x="101" y="2084"/>
                </a:lnTo>
                <a:lnTo>
                  <a:pt x="85" y="2136"/>
                </a:lnTo>
                <a:lnTo>
                  <a:pt x="98" y="2136"/>
                </a:lnTo>
                <a:lnTo>
                  <a:pt x="115" y="2133"/>
                </a:lnTo>
                <a:lnTo>
                  <a:pt x="131" y="2126"/>
                </a:lnTo>
                <a:lnTo>
                  <a:pt x="151" y="2119"/>
                </a:lnTo>
                <a:lnTo>
                  <a:pt x="167" y="2109"/>
                </a:lnTo>
                <a:lnTo>
                  <a:pt x="183" y="2102"/>
                </a:lnTo>
                <a:lnTo>
                  <a:pt x="200" y="2091"/>
                </a:lnTo>
                <a:lnTo>
                  <a:pt x="213" y="2084"/>
                </a:lnTo>
                <a:lnTo>
                  <a:pt x="236" y="2074"/>
                </a:lnTo>
                <a:lnTo>
                  <a:pt x="255" y="2060"/>
                </a:lnTo>
                <a:lnTo>
                  <a:pt x="275" y="2050"/>
                </a:lnTo>
                <a:lnTo>
                  <a:pt x="298" y="2036"/>
                </a:lnTo>
                <a:lnTo>
                  <a:pt x="314" y="2026"/>
                </a:lnTo>
                <a:lnTo>
                  <a:pt x="334" y="2012"/>
                </a:lnTo>
                <a:lnTo>
                  <a:pt x="353" y="2002"/>
                </a:lnTo>
                <a:lnTo>
                  <a:pt x="370" y="1991"/>
                </a:lnTo>
                <a:lnTo>
                  <a:pt x="383" y="1964"/>
                </a:lnTo>
                <a:lnTo>
                  <a:pt x="393" y="1933"/>
                </a:lnTo>
                <a:lnTo>
                  <a:pt x="399" y="1902"/>
                </a:lnTo>
                <a:lnTo>
                  <a:pt x="406" y="1871"/>
                </a:lnTo>
                <a:lnTo>
                  <a:pt x="416" y="1916"/>
                </a:lnTo>
                <a:lnTo>
                  <a:pt x="429" y="1957"/>
                </a:lnTo>
                <a:lnTo>
                  <a:pt x="445" y="1995"/>
                </a:lnTo>
                <a:lnTo>
                  <a:pt x="461" y="2029"/>
                </a:lnTo>
                <a:lnTo>
                  <a:pt x="455" y="1957"/>
                </a:lnTo>
                <a:lnTo>
                  <a:pt x="448" y="1881"/>
                </a:lnTo>
                <a:lnTo>
                  <a:pt x="445" y="1812"/>
                </a:lnTo>
                <a:lnTo>
                  <a:pt x="442" y="1754"/>
                </a:lnTo>
                <a:lnTo>
                  <a:pt x="461" y="1809"/>
                </a:lnTo>
                <a:lnTo>
                  <a:pt x="484" y="1864"/>
                </a:lnTo>
                <a:lnTo>
                  <a:pt x="497" y="1923"/>
                </a:lnTo>
                <a:lnTo>
                  <a:pt x="497" y="1967"/>
                </a:lnTo>
                <a:lnTo>
                  <a:pt x="523" y="1947"/>
                </a:lnTo>
                <a:lnTo>
                  <a:pt x="550" y="1926"/>
                </a:lnTo>
                <a:lnTo>
                  <a:pt x="569" y="1905"/>
                </a:lnTo>
                <a:lnTo>
                  <a:pt x="589" y="1888"/>
                </a:lnTo>
                <a:lnTo>
                  <a:pt x="602" y="1867"/>
                </a:lnTo>
                <a:lnTo>
                  <a:pt x="618" y="1847"/>
                </a:lnTo>
                <a:lnTo>
                  <a:pt x="631" y="1826"/>
                </a:lnTo>
                <a:lnTo>
                  <a:pt x="641" y="1802"/>
                </a:lnTo>
                <a:lnTo>
                  <a:pt x="625" y="1743"/>
                </a:lnTo>
                <a:lnTo>
                  <a:pt x="602" y="1685"/>
                </a:lnTo>
                <a:lnTo>
                  <a:pt x="579" y="1637"/>
                </a:lnTo>
                <a:lnTo>
                  <a:pt x="563" y="1602"/>
                </a:lnTo>
                <a:lnTo>
                  <a:pt x="576" y="1619"/>
                </a:lnTo>
                <a:lnTo>
                  <a:pt x="589" y="1637"/>
                </a:lnTo>
                <a:lnTo>
                  <a:pt x="602" y="1654"/>
                </a:lnTo>
                <a:lnTo>
                  <a:pt x="615" y="1668"/>
                </a:lnTo>
                <a:lnTo>
                  <a:pt x="628" y="1685"/>
                </a:lnTo>
                <a:lnTo>
                  <a:pt x="638" y="1699"/>
                </a:lnTo>
                <a:lnTo>
                  <a:pt x="651" y="1709"/>
                </a:lnTo>
                <a:lnTo>
                  <a:pt x="661" y="1719"/>
                </a:lnTo>
                <a:lnTo>
                  <a:pt x="667" y="1688"/>
                </a:lnTo>
                <a:lnTo>
                  <a:pt x="677" y="1661"/>
                </a:lnTo>
                <a:lnTo>
                  <a:pt x="687" y="1630"/>
                </a:lnTo>
                <a:lnTo>
                  <a:pt x="697" y="1606"/>
                </a:lnTo>
                <a:lnTo>
                  <a:pt x="710" y="1581"/>
                </a:lnTo>
                <a:lnTo>
                  <a:pt x="726" y="1561"/>
                </a:lnTo>
                <a:lnTo>
                  <a:pt x="746" y="1547"/>
                </a:lnTo>
                <a:lnTo>
                  <a:pt x="766" y="1533"/>
                </a:lnTo>
                <a:lnTo>
                  <a:pt x="802" y="1795"/>
                </a:lnTo>
                <a:lnTo>
                  <a:pt x="821" y="2088"/>
                </a:lnTo>
                <a:lnTo>
                  <a:pt x="818" y="2408"/>
                </a:lnTo>
                <a:lnTo>
                  <a:pt x="792" y="2750"/>
                </a:lnTo>
                <a:lnTo>
                  <a:pt x="739" y="3108"/>
                </a:lnTo>
                <a:lnTo>
                  <a:pt x="658" y="3473"/>
                </a:lnTo>
                <a:lnTo>
                  <a:pt x="540" y="3849"/>
                </a:lnTo>
                <a:lnTo>
                  <a:pt x="383" y="4221"/>
                </a:lnTo>
                <a:lnTo>
                  <a:pt x="582" y="422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782640"/>
            <a:ext cx="914400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79560" y="0"/>
            <a:ext cx="527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623880"/>
            <a:ext cx="914400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522360"/>
            <a:ext cx="914400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55680" y="0"/>
            <a:ext cx="488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125800" y="3429000"/>
            <a:ext cx="536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or a tennis m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in Duba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670120" y="0"/>
            <a:ext cx="3670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-14400"/>
            <a:ext cx="856908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376200"/>
            <a:ext cx="9144000" cy="61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835280" y="3141720"/>
            <a:ext cx="561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wimm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 a new beach resort in Jap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414360"/>
            <a:ext cx="9144000" cy="58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554040"/>
            <a:ext cx="914400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26920" y="2060640"/>
            <a:ext cx="7632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If that‘s all too boring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then maybe you‘d lik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mountain trecking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7080" y="82440"/>
            <a:ext cx="8889840" cy="669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2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71640" y="-12600"/>
            <a:ext cx="720072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77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76360" y="9360"/>
            <a:ext cx="60768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195640" y="-4680"/>
            <a:ext cx="4752720" cy="68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6040" y="0"/>
            <a:ext cx="87901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2920" y="2708280"/>
            <a:ext cx="88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or would you prefer byking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5680" y="9360"/>
            <a:ext cx="896472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55520"/>
            <a:ext cx="9144000" cy="650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270000"/>
            <a:ext cx="9144000" cy="64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55520"/>
            <a:ext cx="9144000" cy="65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2349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Whatever you plan to do  -</a:t>
            </a:r>
            <a:br>
              <a:rPr sz="4400"/>
            </a:b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Have wonderful holidays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20840" y="0"/>
            <a:ext cx="83008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42920" y="2997360"/>
            <a:ext cx="712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rip to the Grand Canyon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- the new “Skywalk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87560" y="0"/>
            <a:ext cx="516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55800" y="-171360"/>
            <a:ext cx="530208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38240"/>
            <a:ext cx="9144000" cy="65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549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ff0000"/>
                </a:solidFill>
                <a:latin typeface="Arial"/>
              </a:rPr>
              <a:t>- or would you rather </a:t>
            </a:r>
            <a:br>
              <a:rPr sz="4800"/>
            </a:br>
            <a:r>
              <a:rPr b="1" lang="en-AU" sz="4800" spc="-1" strike="noStrike">
                <a:solidFill>
                  <a:srgbClr val="ff0000"/>
                </a:solidFill>
                <a:latin typeface="Arial"/>
              </a:rPr>
              <a:t>prefer a visit to a  themeparc?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3333cc"/>
                </a:solidFill>
                <a:latin typeface="Arial"/>
              </a:rPr>
              <a:t>Maybe at Las Vega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08:50:05Z</dcterms:created>
  <dc:creator>Stein</dc:creator>
  <dc:description/>
  <dc:language>en-US</dc:language>
  <cp:lastModifiedBy> </cp:lastModifiedBy>
  <dcterms:modified xsi:type="dcterms:W3CDTF">2008-10-29T18:10:01Z</dcterms:modified>
  <cp:revision>7</cp:revision>
  <dc:subject/>
  <dc:title>Urlaubsempfehlungen  für den Jahresurlaub  2007</dc:title>
</cp:coreProperties>
</file>