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AEC26-4E4A-4A73-9A6C-C14D250FB3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C7D-56FF-473A-BF0D-8821DF58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6E3-764D-4692-A175-CE3F4C53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D5C-1A81-4D5E-B749-50ED890E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E24-55F7-469C-949D-78B3726E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942-0712-4AB8-8B5C-0633E2F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0C8-A904-4D5C-B588-51E2D827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F90-95DD-4745-A280-D6CCD92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697-5A6A-4E8F-A658-A84250E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AD0-E7B2-4E83-8224-2931B4E1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B44-6341-4272-84CB-A2BAA4D3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222-08CE-4AA4-9435-613C9A51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8726-BF52-413B-8111-A0BA35C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CB45C-034C-482C-A749-6F2FD0AF31F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560" y="824040"/>
            <a:ext cx="9064800" cy="60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ry to guess what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he following images ar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940000"/>
            <a:ext cx="100807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Set-up of thousands of small pictures, showing the traces of 11,000 planes, the number of commercial flights taking place in the U.S. every 8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19640"/>
            <a:ext cx="100807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70,000 batteries are produced every 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6666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2680" y="6770160"/>
            <a:ext cx="9607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65,000 cigarettes. The number of Americans under 18 that start smoking every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2320" y="6770160"/>
            <a:ext cx="9068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 million of plastic cups trashed every six hours in commercial fligh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414080"/>
            <a:ext cx="907092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c4c4c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578640"/>
            <a:ext cx="100807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60,000 plastic bag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iscarded every 5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49840"/>
            <a:ext cx="10080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 million plastic bottle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umped every 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4480" y="6840360"/>
            <a:ext cx="90662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 not a pictu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440" y="6659640"/>
            <a:ext cx="9070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It’s 106,000 aluminium can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thrown into the garbage every 30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</a:t>
            </a:r>
            <a:br>
              <a:rPr sz="4400"/>
            </a:b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WASTE 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800000"/>
            <a:ext cx="90709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se pictures are part of the exhibit  "Running the Numbers, an American Self Portait",  of photographer Chris Jordan, highlighting the millions of objects that accumulate in the planet, </a:t>
            </a:r>
            <a:br>
              <a:rPr sz="3200"/>
            </a:b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well beyond our s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 numbers mentioned were obtained from the quantities of waste discarded only in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Imagine what world figure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9068040" cy="69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nvironmental degradation is a cumulative effect of the actions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ach one of us takes.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 Therefore, the solution also lies within each one of us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Help our planet!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Think before you use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Reduce, reuse, recycle…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GIA – Grupo de Impacto Ambiental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Adaptado de: Superinteressante, Edição 247, Dez/2007.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Fotos: www.chrisjorda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20000"/>
            <a:ext cx="1008072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426,000 cell phones discarded da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562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201680"/>
            <a:ext cx="907092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907240"/>
            <a:ext cx="1008072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00,000 cigarette packs, the sam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number of Americans who di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every six months due to smok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18006430</cp:lastModifiedBy>
  <dcterms:modified xsi:type="dcterms:W3CDTF">2008-08-21T00:00:57Z</dcterms:modified>
  <cp:revision>5</cp:revision>
  <dc:subject/>
  <dc:title>Pauta GIA Semana de 23/06 a 27/06          Tente adivinhar o que são  as imagens a seguir.</dc:title>
</cp:coreProperties>
</file>