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4477D-F662-4159-AFF0-B7A13D09A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060-733F-4983-9732-69CB6D97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D27-0C64-41A7-AA6F-C0AB1A9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69F-C30B-494D-B8CB-0CC7BB0F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AA8-4D9C-4C6F-BC91-1247AD4E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FDF-F6AC-46B9-91E2-77F9948C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8F7-B0F8-480C-BD3C-964ECDD7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FB2-0BBE-427D-AADC-09B5DC4E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B02-2DE0-4D73-9A16-4250302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D88-925A-41A4-9501-B221DAB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0A5-DAEE-47A0-B7B9-76A76C8C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CAC-E912-4765-B4E1-DA54025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81F-3CC6-4A26-B574-B071238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84313-EF18-4B73-8CC8-7675136FF4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560" y="824040"/>
            <a:ext cx="9064800" cy="60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ry to guess what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he following images a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940000"/>
            <a:ext cx="100807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Set-up of thousands of small pictures, showing the traces of 11,000 planes, the number of commercial flights taking place in the U.S. every 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19640"/>
            <a:ext cx="100807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70,000 batteries are produced every 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6666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2680" y="6770160"/>
            <a:ext cx="9607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65,000 cigarettes. The number of Americans under 18 that start smoking every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2320" y="6770160"/>
            <a:ext cx="9068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 million of plastic cups trashed every six hours in commercial f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092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c4c4c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578640"/>
            <a:ext cx="10080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60,000 plastic bag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iscarded every 5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49840"/>
            <a:ext cx="10080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 million plastic bottle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umped every 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4480" y="6840360"/>
            <a:ext cx="90662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 not a pictu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440" y="6659640"/>
            <a:ext cx="9070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It’s 106,000 aluminium can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thrown into the garbage every 30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WASTE 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800000"/>
            <a:ext cx="90709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se pictures are part of the exhibit  "Running the Numbers, an American Self Portait",  of photographer Chris Jordan, highlighting the millions of objects that accumulate in the planet, </a:t>
            </a:r>
            <a:br>
              <a:rPr sz="3200"/>
            </a:b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well beyond our s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 numbers mentioned were obtained from the quantities of waste discarded only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Imagine what world figure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9068040" cy="69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nvironmental degradation is a cumulative effect of the actions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ach one of us takes.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 Therefore, the solution also lies within each one of us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Help our planet!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Think before you use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Reduce, reuse, recycle…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GIA – Grupo de Impacto Ambiental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Adaptado de: Superinteressante, Edição 247, Dez/2007.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Fotos: www.chrisjorda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20000"/>
            <a:ext cx="1008072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426,000 cell phones discarded da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562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201680"/>
            <a:ext cx="907092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907240"/>
            <a:ext cx="1008072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00,000 cigarette packs, the sam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number of Americans who di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every six months due to smok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18006430</cp:lastModifiedBy>
  <dcterms:modified xsi:type="dcterms:W3CDTF">2008-08-21T00:00:57Z</dcterms:modified>
  <cp:revision>5</cp:revision>
  <dc:subject/>
  <dc:title>Pauta GIA Semana de 23/06 a 27/06          Tente adivinhar o que são  as imagens a seguir.</dc:title>
</cp:coreProperties>
</file>