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F96FF-D5B9-494D-A019-340234D791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331-0CF5-47D5-8E50-60A2F359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555-6A0E-4E0B-9E23-A5CAEAC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700-71BA-42F7-9F0B-D4919403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4000"/>
            <a:ext cx="29181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F0E-416C-49EC-9B5D-59214984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801-E71D-4EB6-AACD-BC2EBB0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B65-7E4C-450A-8FAD-D7F097B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709-1BA8-4D93-901E-3E3D958C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A85-132A-43AB-A0F6-7336C1E0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38DB-5116-4ED8-B589-25BB3B7F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4B1-74A8-4709-B74B-80D2B799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400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E7B-B24F-46F0-999B-7D8A36FB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30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6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26A-E38A-4284-9D4A-F2240EB3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3189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8584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7360" indent="-21276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9360" indent="-20808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1000" indent="-209520">
              <a:lnSpc>
                <a:spcPct val="66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1000" indent="-209520">
              <a:lnSpc>
                <a:spcPct val="6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82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860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8F874-0987-488D-A1C4-CBDE5C0A42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560" y="824040"/>
            <a:ext cx="9064800" cy="60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ry to guess what</a:t>
            </a:r>
            <a:br>
              <a:rPr sz="5000"/>
            </a:b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Georgia"/>
              </a:rPr>
              <a:t>the following images are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940000"/>
            <a:ext cx="1008072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Set-up of thousands of small pictures, showing the traces of 11,000 planes, the number of commercial flights taking place in the U.S. every 8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19640"/>
            <a:ext cx="1008072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70,000 batteries are produced every 1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666666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2680" y="6770160"/>
            <a:ext cx="96076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65,000 cigarettes. The number of Americans under 18 that start smoking every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2320" y="6770160"/>
            <a:ext cx="90680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1 million of plastic cups trashed every six hours in commercial fligh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414080"/>
            <a:ext cx="9070920" cy="56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c4c4c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578640"/>
            <a:ext cx="100807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60,000 plastic bag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iscarded every 5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549840"/>
            <a:ext cx="100807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 million plastic bottle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dumped every 5 minu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4480" y="6840360"/>
            <a:ext cx="90662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 not a pictur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661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440" y="6659640"/>
            <a:ext cx="90709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It’s 106,000 aluminium cans,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thrown into the garbage every 30 second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This is</a:t>
            </a:r>
            <a:br>
              <a:rPr sz="4400"/>
            </a:br>
            <a:r>
              <a:rPr b="1" lang="en-US" sz="4400" spc="-1" strike="noStrike">
                <a:solidFill>
                  <a:srgbClr val="ccccff"/>
                </a:solidFill>
                <a:latin typeface="Georgia"/>
              </a:rPr>
              <a:t>WASTE AR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800000"/>
            <a:ext cx="9070920" cy="55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se pictures are part of the exhibit  "Running the Numbers, an American Self Portait",  of photographer Chris Jordan, highlighting the millions of objects that accumulate in the planet, </a:t>
            </a:r>
            <a:br>
              <a:rPr sz="3200"/>
            </a:b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well beyond our s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The numbers mentioned were obtained from the quantities of waste discarded only in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Georgia"/>
              </a:rPr>
              <a:t>Imagine what world figure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9068040" cy="69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nvironmental degradation is a cumulative effect of the actions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each one of us takes..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 Therefore, the solution also lies within each one of us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Help our planet!</a:t>
            </a: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Think before you use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ccff"/>
                </a:solidFill>
                <a:latin typeface="Georgia"/>
              </a:rPr>
              <a:t>Reduce, reuse, recycle…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GIA – Grupo de Impacto Ambiental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Adaptado de: Superinteressante, Edição 247, Dez/2007.</a:t>
            </a:r>
            <a:br>
              <a:rPr sz="1600"/>
            </a:br>
            <a:r>
              <a:rPr b="1" lang="en-US" sz="1600" spc="-1" strike="noStrike">
                <a:solidFill>
                  <a:srgbClr val="ccccff"/>
                </a:solidFill>
                <a:latin typeface="Georgia"/>
              </a:rPr>
              <a:t>Fotos: www.chrisjorda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020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020000"/>
            <a:ext cx="1008072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7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Georgia"/>
              </a:rPr>
              <a:t>426,000 cell phones discarded dai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5562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201680"/>
            <a:ext cx="9070920" cy="61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6300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907240"/>
            <a:ext cx="1008072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200,000 cigarette packs, the sam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number of Americans who die</a:t>
            </a:r>
            <a:br>
              <a:rPr sz="3000"/>
            </a:br>
            <a:r>
              <a:rPr b="1" lang="en-US" sz="3000" spc="-1" strike="noStrike">
                <a:solidFill>
                  <a:srgbClr val="ccccff"/>
                </a:solidFill>
                <a:latin typeface="Georgia"/>
              </a:rPr>
              <a:t>every six months due to smok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1764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-5482080"/>
            <a:ext cx="9070920" cy="128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i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18006430</cp:lastModifiedBy>
  <dcterms:modified xsi:type="dcterms:W3CDTF">2008-08-21T00:00:57Z</dcterms:modified>
  <cp:revision>5</cp:revision>
  <dc:subject/>
  <dc:title>Pauta GIA Semana de 23/06 a 27/06          Tente adivinhar o que são  as imagens a seguir.</dc:title>
</cp:coreProperties>
</file>