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E170D-1106-4ED8-9929-F0729E15F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93CC-48F5-4D62-A9DF-CB9B21477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5D22D-F174-4B7E-824E-180F97968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D4C1D-3D66-49C6-8739-4E5EFE1B9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594FC-C2CC-4E63-91C0-25A61B693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74314-57DE-4491-B9F1-B8C86CEB7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A0948-59EE-47D1-A4F0-CEB158BE2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9BBCD-86D4-49CB-B9FA-806CC3E64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397F2-A1BC-4D17-8330-7FCBCE623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26525-B7ED-4085-AE07-EFF74D276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09A5F-E613-459E-B0F2-CCC548DC0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0212-0C65-49E3-AF49-7FCD4EDFE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1CFE3-345D-4C03-9EFE-3CD19DC60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50DEB-FE3A-4BAD-B10E-6F992068A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44120-3F2C-4129-BF53-535924EBE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D9A91-6BBD-4FB7-A50B-9BB074C5B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69465-E7A9-4867-A011-006EBCD80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074D0F-B3F0-42EC-9901-464C002BF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EACF0-7755-45FB-8D7D-8ADBD500E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9032B-4D3A-4DCC-84AC-AD0E4BF37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B5E64C-7654-4645-AAF8-A9ADA2713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20F6C-A309-4FE1-B8AD-8B295F273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BE4DD-6902-428F-B04B-AE02F5723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89164-53F1-4708-A5EB-F1879F01A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40D87F-E368-4660-914A-BE2C1139E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1F479-D16E-4481-B779-45EE68686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F3112-E3B9-407B-921C-9AFEB56CC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B980E-FDFB-4CBC-A872-3E1FBD861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91028A-9263-452F-9439-A749CBDD91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C03429-BB61-4973-9E94-61D6922B2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A52D1-B21C-4CBB-B46E-EE9A8DA53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0ED4A-40EB-4DE4-8105-19AA57BB7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E3461-1381-495D-94D6-A75F97DB0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631A-16D4-4EE6-8CC9-23874A7BE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5793-7430-4A18-8374-C122BA474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791A8-8A9D-4A75-A4F3-499F7A699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CE1D-F865-4264-90FA-A31BCF9ED568}"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41A3-C13B-4937-875F-07DA09503E35}"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5511-A763-42B7-8072-0939CCBBF7D1}"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Guru_Mindmap.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ttencourtwood.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will individually pick one of the following:</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eed that they would like to find a solution for (ie waking up teenagers in the morning). Note the solution to this problem may result in developing a prototype (it doesn’t have to work- just to be used in a commercial or for photography purposes) or to provide a unique service.</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lIns="90000" rIns="90000" tIns="46800" bIns="46800"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2"/>
          </p:cNvPr>
          <p:cNvPicPr/>
          <p:nvPr/>
        </p:nvPicPr>
        <p:blipFill>
          <a:blip r:embed="rId3"/>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lIns="90000" rIns="90000" tIns="46800" bIns="46800" anchor="t">
            <a:normAutofit fontScale="90000"/>
          </a:bodyPr>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 descr=""/>
          <p:cNvPicPr/>
          <p:nvPr/>
        </p:nvPicPr>
        <p:blipFill>
          <a:blip r:embed="rId2"/>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lIns="90000" rIns="90000" tIns="46800" bIns="46800" anchor="t">
            <a:normAutofit fontScale="80000"/>
          </a:bodyPr>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ind connections</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of lines, colours, arrows, and branches can be used to indicate relationships between the ideas generated the mind map.</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600" spc="-1" strike="noStrike">
              <a:solidFill>
                <a:srgbClr val="000000"/>
              </a:solidFill>
              <a:latin typeface="Constantia"/>
            </a:endParaRPr>
          </a:p>
        </p:txBody>
      </p:sp>
      <p:pic>
        <p:nvPicPr>
          <p:cNvPr id="170" name="" descr=""/>
          <p:cNvPicPr/>
          <p:nvPr/>
        </p:nvPicPr>
        <p:blipFill>
          <a:blip r:embed="rId2"/>
          <a:stretch/>
        </p:blipFill>
        <p:spPr>
          <a:xfrm>
            <a:off x="228600" y="533520"/>
            <a:ext cx="4186080" cy="3267000"/>
          </a:xfrm>
          <a:prstGeom prst="rect">
            <a:avLst/>
          </a:prstGeom>
          <a:ln w="0">
            <a:noFill/>
          </a:ln>
        </p:spPr>
      </p:pic>
      <p:pic>
        <p:nvPicPr>
          <p:cNvPr id="171" name="" descr="Example Mind Map"/>
          <p:cNvPicPr/>
          <p:nvPr/>
        </p:nvPicPr>
        <p:blipFill>
          <a:blip r:embed="rId3"/>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lIns="90000" rIns="90000" tIns="46800" bIns="46800"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2"/>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Text Placeholder 29" descr=""/>
          <p:cNvPicPr/>
          <p:nvPr/>
        </p:nvPicPr>
        <p:blipFill>
          <a:blip r:embed="rId2"/>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lIns="90000" rIns="90000" tIns="46800" bIns="46800" anchor="t">
            <a:normAutofit fontScale="96000"/>
          </a:bodyPr>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individually) ,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ased on what is presented students will pick a project that they think is interesting until we have groups of 4-5 peopl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 descr=""/>
          <p:cNvPicPr/>
          <p:nvPr/>
        </p:nvPicPr>
        <p:blipFill>
          <a:blip r:embed="rId2"/>
          <a:stretch/>
        </p:blipFill>
        <p:spPr>
          <a:xfrm>
            <a:off x="228600" y="771480"/>
            <a:ext cx="4762440" cy="6086520"/>
          </a:xfrm>
          <a:prstGeom prst="rect">
            <a:avLst/>
          </a:prstGeom>
          <a:ln w="0">
            <a:noFill/>
          </a:ln>
        </p:spPr>
      </p:pic>
      <p:pic>
        <p:nvPicPr>
          <p:cNvPr id="183" name="" descr=""/>
          <p:cNvPicPr/>
          <p:nvPr/>
        </p:nvPicPr>
        <p:blipFill>
          <a:blip r:embed="rId3"/>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lIns="90000" rIns="90000" tIns="46800" bIns="46800"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 descr=""/>
          <p:cNvPicPr/>
          <p:nvPr/>
        </p:nvPicPr>
        <p:blipFill>
          <a:blip r:embed="rId2"/>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lIns="90000" rIns="90000" tIns="46800" bIns="46800"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Title Placeholder 8" descr=""/>
          <p:cNvPicPr/>
          <p:nvPr/>
        </p:nvPicPr>
        <p:blipFill>
          <a:blip r:embed="rId2"/>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lIns="90000" rIns="90000" tIns="46800" bIns="46800"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Title 1" descr=""/>
          <p:cNvPicPr/>
          <p:nvPr/>
        </p:nvPicPr>
        <p:blipFill>
          <a:blip r:embed="rId2"/>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ndesign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that final presentation requires the use of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Title 1" descr=""/>
          <p:cNvPicPr/>
          <p:nvPr/>
        </p:nvPicPr>
        <p:blipFill>
          <a:blip r:embed="rId2"/>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Title 1" descr=""/>
          <p:cNvPicPr/>
          <p:nvPr/>
        </p:nvPicPr>
        <p:blipFill>
          <a:blip r:embed="rId2"/>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935000"/>
            <a:ext cx="8229600" cy="469440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cy committee- Creative campaign that “Reading is Cool”</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Rawn</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Visual promoting cues/ reminders for the library rules. The more creative and funny the better. Project title: Converting Library Rules to Visual Cue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 Ross</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 Lesoto- developing an awareness about our sister school and the work we do for them. Possibly encouraging donation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 McKeagu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ar- Goal to get more students and the community involved in Bear- making it fun and engaging. Including a fundraising scheme for planting of flowers and shrubs on the school property.</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Department- promoting the learning of French</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1800" spc="-1" strike="noStrike">
                <a:solidFill>
                  <a:srgbClr val="000000"/>
                </a:solidFill>
                <a:latin typeface="Constantia"/>
              </a:rPr>
              <a:t>Client- Mrs.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ess and Games club-promotional material</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Gingerich</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y –Macbeth- A campaign for the show. A poster, a program, a log0 (Spartan Theatre). Video ad and website design.</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 Williams and Ms. Awwad</a:t>
            </a:r>
            <a:endParaRPr b="0" lang="en-US" sz="1800" spc="-1" strike="noStrike">
              <a:solidFill>
                <a:srgbClr val="000000"/>
              </a:solidFill>
              <a:latin typeface="Constantia"/>
            </a:endParaRPr>
          </a:p>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Title 1" descr=""/>
          <p:cNvPicPr/>
          <p:nvPr/>
        </p:nvPicPr>
        <p:blipFill>
          <a:blip r:embed="rId2"/>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Title 1" descr=""/>
          <p:cNvPicPr/>
          <p:nvPr/>
        </p:nvPicPr>
        <p:blipFill>
          <a:blip r:embed="rId2"/>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Title 1" descr=""/>
          <p:cNvPicPr/>
          <p:nvPr/>
        </p:nvPicPr>
        <p:blipFill>
          <a:blip r:embed="rId2"/>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Customer</cp:lastModifiedBy>
  <dcterms:modified xsi:type="dcterms:W3CDTF">2009-02-23T21:57:28Z</dcterms:modified>
  <cp:revision>31</cp:revision>
  <dc:subject/>
  <dc:title>DESIGN PROCESS</dc:title>
</cp:coreProperties>
</file>