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965B6-5CB1-41D3-9244-1168A94C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5DE3A-01D9-4B08-A8F9-9DC3F1AB6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AD57A-1714-4498-A88E-50B143DF8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C0455-1F0E-4101-8167-2B62D2536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06167-1E2D-4F0F-AB40-AE59EA2B1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3B1DC-ECB4-4295-A436-DEBBF7B77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27944-4CA0-43B2-ADC0-C50DBF929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E91E0-2701-450C-8C6E-70088B40E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645AC-858C-4615-9493-DB0B4B34C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3423C-1F6B-4E33-B81F-D8C69B75F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C7942-B3F5-426E-8FF6-A859F0D3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681EE-EBF5-4C71-B52A-FB420A862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17523-6ACC-4901-95EB-40E596B49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8BEF8-3B9F-4DB8-B4D1-B04CCB459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50E2C-DB00-42C7-83B4-5E8D4F03D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09496-2BD6-44EE-A208-426E4D565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145101-00C5-4360-B2B3-B24566393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FBC412-27E1-428D-A2F2-BF17A42620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F4331D-EF62-477C-81E2-A7BF0477A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D27BC-C0DD-4D4D-BE74-25807AF9C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E699F0-6548-473B-A81B-CE00C792E1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8ABC3-3BA2-4758-8F11-2DD19F163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5B014-3C2A-4F27-B50B-AB6883F0C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2454B-A192-4122-B477-936228ACA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6B8A64-E02D-41EC-AF4D-3FD6D6ACA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B9219-1419-4E6D-ACC3-E8AB0164A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170AB-182A-479E-ABC4-0A6A770E5B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25D50C-F926-4BD1-B758-DB8E17419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E77BB9-6F13-456F-905A-8850A2A37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6A59AB-16D9-4375-856C-B171F48F0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D08B5-3991-42B3-A396-82C75FCD1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558E0-2A09-46A0-9035-928ED777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3467F-9EBF-4AE5-BC99-6AE3275A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C0996-DB2E-4A1C-9186-0DF9C3ABD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31B0C-38AD-4D1C-A8BA-2142661B3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DAC1-F107-4B38-9E2C-3268EC41D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9913-DD56-4DD9-BB07-F73418B4313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B63E-32FA-4214-B0CD-1BFA9B52BA2F}"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694C-1EA4-4EBB-B6A8-04F825FD74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Guru_Mindmap.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ettencourtwood.com/"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ill individually pick one of the following:</a:t>
            </a: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lvl="1" marL="601200" indent="-231120">
              <a:spcBef>
                <a:spcPts val="550"/>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2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sara-mind-map"/>
          <p:cNvPicPr/>
          <p:nvPr/>
        </p:nvPicPr>
        <p:blipFill>
          <a:blip r:embed="rId1"/>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1"/>
          </p:cNvPr>
          <p:cNvPicPr/>
          <p:nvPr/>
        </p:nvPicPr>
        <p:blipFill>
          <a:blip r:embed="rId2"/>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Picture 4" descr="mindmapguidlines"/>
          <p:cNvPicPr/>
          <p:nvPr/>
        </p:nvPicPr>
        <p:blipFill>
          <a:blip r:embed="rId1"/>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Find connectio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Use of lines, colours, arrows, and branches can be used to indicate relationships between the ideas generated the mind map.</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200" spc="-1" strike="noStrike">
              <a:solidFill>
                <a:srgbClr val="000000"/>
              </a:solidFill>
              <a:latin typeface="Constantia"/>
            </a:endParaRPr>
          </a:p>
        </p:txBody>
      </p:sp>
      <p:pic>
        <p:nvPicPr>
          <p:cNvPr id="170" name="Picture 4" descr="mindmap_2"/>
          <p:cNvPicPr/>
          <p:nvPr/>
        </p:nvPicPr>
        <p:blipFill>
          <a:blip r:embed="rId1"/>
          <a:stretch/>
        </p:blipFill>
        <p:spPr>
          <a:xfrm>
            <a:off x="228600" y="533520"/>
            <a:ext cx="4186080" cy="3267000"/>
          </a:xfrm>
          <a:prstGeom prst="rect">
            <a:avLst/>
          </a:prstGeom>
          <a:ln w="0">
            <a:noFill/>
          </a:ln>
        </p:spPr>
      </p:pic>
      <p:pic>
        <p:nvPicPr>
          <p:cNvPr id="171" name="Picture 6" descr="Example Mind Map"/>
          <p:cNvPicPr/>
          <p:nvPr/>
        </p:nvPicPr>
        <p:blipFill>
          <a:blip r:embed="rId2"/>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5" descr="whatyoucando"/>
          <p:cNvPicPr/>
          <p:nvPr/>
        </p:nvPicPr>
        <p:blipFill>
          <a:blip r:embed="rId1"/>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1"/>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Picture 9" descr="bettencourt_logo_draft_1"/>
          <p:cNvPicPr/>
          <p:nvPr/>
        </p:nvPicPr>
        <p:blipFill>
          <a:blip r:embed="rId1"/>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bettencourt_logo_brainstroming"/>
          <p:cNvPicPr/>
          <p:nvPr/>
        </p:nvPicPr>
        <p:blipFill>
          <a:blip r:embed="rId1"/>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Picture 5" descr="bettencourt_logo_draft_2"/>
          <p:cNvPicPr/>
          <p:nvPr/>
        </p:nvPicPr>
        <p:blipFill>
          <a:blip r:embed="rId1"/>
          <a:stretch/>
        </p:blipFill>
        <p:spPr>
          <a:xfrm>
            <a:off x="228600" y="771480"/>
            <a:ext cx="4762440" cy="6086520"/>
          </a:xfrm>
          <a:prstGeom prst="rect">
            <a:avLst/>
          </a:prstGeom>
          <a:ln w="0">
            <a:noFill/>
          </a:ln>
        </p:spPr>
      </p:pic>
      <p:pic>
        <p:nvPicPr>
          <p:cNvPr id="183" name="Picture 7" descr="bettencourt_logo_draft_3"/>
          <p:cNvPicPr/>
          <p:nvPr/>
        </p:nvPicPr>
        <p:blipFill>
          <a:blip r:embed="rId2"/>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5" descr="bettencourt_logo_draft"/>
          <p:cNvPicPr/>
          <p:nvPr/>
        </p:nvPicPr>
        <p:blipFill>
          <a:blip r:embed="rId1"/>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Picture 8" descr="bettencourt_finallogo"/>
          <p:cNvPicPr/>
          <p:nvPr/>
        </p:nvPicPr>
        <p:blipFill>
          <a:blip r:embed="rId1"/>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Picture 4" descr="bettencourt_finallogo"/>
          <p:cNvPicPr/>
          <p:nvPr/>
        </p:nvPicPr>
        <p:blipFill>
          <a:blip r:embed="rId1"/>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laws"/>
          <p:cNvPicPr/>
          <p:nvPr/>
        </p:nvPicPr>
        <p:blipFill>
          <a:blip r:embed="rId1"/>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Mind-map"/>
          <p:cNvPicPr/>
          <p:nvPr/>
        </p:nvPicPr>
        <p:blipFill>
          <a:blip r:embed="rId1"/>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llustrator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bonus marksif the final presentation requires the uses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523880"/>
            <a:ext cx="8229600" cy="469440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 for Mr. Leeson’s summer soccer team</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r. Shabel’s organization that is fundraising to build schools in Leesoto (maybe two groups)</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motional material for Ridgemont to be used at the feeder schools to improve our image- Mrs. Makris (lead) ..and to improve the pride around the school</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and Literacy- Run a program that makes reading cool and work on improving the library web- including Word of the Week(Mrs. McKeague)</a:t>
            </a:r>
            <a:endParaRPr b="0" lang="en-US" sz="26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ndraising for Lesotho including promoting the talent show (developing an awareness about our sister school and the work we do for the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anchor="t">
            <a:normAutofit/>
          </a:bodyPr>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Title 1" descr=""/>
          <p:cNvPicPr/>
          <p:nvPr/>
        </p:nvPicPr>
        <p:blipFill>
          <a:blip r:embed="rId1"/>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Title 1" descr=""/>
          <p:cNvPicPr/>
          <p:nvPr/>
        </p:nvPicPr>
        <p:blipFill>
          <a:blip r:embed="rId1"/>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shayna</cp:lastModifiedBy>
  <dcterms:modified xsi:type="dcterms:W3CDTF">2010-03-09T03:52:44Z</dcterms:modified>
  <cp:revision>33</cp:revision>
  <dc:subject/>
  <dc:title>DESIGN PROCESS</dc:title>
</cp:coreProperties>
</file>