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E1D326-3611-48FA-A18B-BE8EAC95D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B5083-F4DA-46B0-A3DA-EF35F55B6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B0814-49A8-4392-B6CA-C6A7A91E5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04E7D-4C4E-431C-A485-53AC8579A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2F363-A697-4EDE-A019-E6F5C759E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35F92-3C48-4C49-9CA7-A24A01CA2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4AF40-DE4C-4024-9102-8960D0FB31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5B0B9-98AC-40C1-BAC0-15821C53F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7284C-649A-447E-AD41-9B053EF50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2138F-B0F7-42D9-9960-C0F2315E8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F1BB7-7743-4138-9E37-91DED03F5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210BD-BB16-4D7D-A731-495C1CA0E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9595A-BCD8-4591-A787-C3A694A35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BBA8A-2CA1-4AEF-A029-B90DC77FB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8E678-3A31-4540-B1CB-C11DADEAF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C1753-7351-411F-9601-E5C657C0E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47104E-6D89-44C3-83FB-14A5D46F9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C1A73A-DB9D-4BE4-9AB9-33E54374F7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E4C5B-FCA5-4D96-8BBF-441C7DEC5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7E2C44-92C6-4951-BA0D-E0801BB1C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A361C-5433-41A1-9EDD-98696C819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9A4A8-F605-406C-91D9-BBD965E46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4AFFE-0F4E-4117-8552-6D64C68E6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230FD8-C766-4FC5-BBB4-99063F77F5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F5D06-BF8D-4FA5-B47C-7B8F5BA5A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6BDCA-AE80-42BB-B32D-9CD904F26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A66AC-B076-42D3-B8D6-F768ECF81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BA983-BE2F-403F-82C1-4253C291E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30A91B-687D-4B5F-BD8D-83D71E1985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9550D5-2F85-4F76-B0A9-9138E63B45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0CE0A-C74B-49E4-AB5A-FFE39BB9C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84CD-AAEC-4415-AAD8-8F852B4B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F1A82-F8CA-47A7-9D69-E64D8A60E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C48DA-C8A5-4CCB-83AB-36B46FEB1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78ED-B16F-412C-9833-38DB0A416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75BF9-1036-4108-90AB-B424E6135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51DE-89A0-4EEC-96FA-97A67E5E819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28877-AE71-46D8-A222-B66247B13FC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AC74-9A1F-40D9-BB1A-0CF7E5E3343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Guru_Mindmap.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ettencourtwood.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individually pick one of the following:</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601200" indent="-231120">
              <a:spcBef>
                <a:spcPts val="550"/>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2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sara-mind-map"/>
          <p:cNvPicPr/>
          <p:nvPr/>
        </p:nvPicPr>
        <p:blipFill>
          <a:blip r:embed="rId1"/>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1"/>
          </p:cNvPr>
          <p:cNvPicPr/>
          <p:nvPr/>
        </p:nvPicPr>
        <p:blipFill>
          <a:blip r:embed="rId2"/>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anchor="t">
            <a:normAutofit fontScale="94000"/>
          </a:bodyPr>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Picture 4" descr="mindmapguidlines"/>
          <p:cNvPicPr/>
          <p:nvPr/>
        </p:nvPicPr>
        <p:blipFill>
          <a:blip r:embed="rId1"/>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nd connection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Use of lines, colours, arrows, and branches can be used to indicate relationships between the ideas generated the mind map.</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200" spc="-1" strike="noStrike">
              <a:solidFill>
                <a:srgbClr val="000000"/>
              </a:solidFill>
              <a:latin typeface="Constantia"/>
            </a:endParaRPr>
          </a:p>
        </p:txBody>
      </p:sp>
      <p:pic>
        <p:nvPicPr>
          <p:cNvPr id="170" name="Picture 4" descr="mindmap_2"/>
          <p:cNvPicPr/>
          <p:nvPr/>
        </p:nvPicPr>
        <p:blipFill>
          <a:blip r:embed="rId1"/>
          <a:stretch/>
        </p:blipFill>
        <p:spPr>
          <a:xfrm>
            <a:off x="228600" y="533520"/>
            <a:ext cx="4186080" cy="3267000"/>
          </a:xfrm>
          <a:prstGeom prst="rect">
            <a:avLst/>
          </a:prstGeom>
          <a:ln w="0">
            <a:noFill/>
          </a:ln>
        </p:spPr>
      </p:pic>
      <p:pic>
        <p:nvPicPr>
          <p:cNvPr id="171" name="Picture 6" descr="Example Mind Map"/>
          <p:cNvPicPr/>
          <p:nvPr/>
        </p:nvPicPr>
        <p:blipFill>
          <a:blip r:embed="rId2"/>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whatyoucando"/>
          <p:cNvPicPr/>
          <p:nvPr/>
        </p:nvPicPr>
        <p:blipFill>
          <a:blip r:embed="rId1"/>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1"/>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Picture 9" descr="bettencourt_logo_draft_1"/>
          <p:cNvPicPr/>
          <p:nvPr/>
        </p:nvPicPr>
        <p:blipFill>
          <a:blip r:embed="rId1"/>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bettencourt_logo_brainstroming"/>
          <p:cNvPicPr/>
          <p:nvPr/>
        </p:nvPicPr>
        <p:blipFill>
          <a:blip r:embed="rId1"/>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Picture 5" descr="bettencourt_logo_draft_2"/>
          <p:cNvPicPr/>
          <p:nvPr/>
        </p:nvPicPr>
        <p:blipFill>
          <a:blip r:embed="rId1"/>
          <a:stretch/>
        </p:blipFill>
        <p:spPr>
          <a:xfrm>
            <a:off x="228600" y="771480"/>
            <a:ext cx="4762440" cy="6086520"/>
          </a:xfrm>
          <a:prstGeom prst="rect">
            <a:avLst/>
          </a:prstGeom>
          <a:ln w="0">
            <a:noFill/>
          </a:ln>
        </p:spPr>
      </p:pic>
      <p:pic>
        <p:nvPicPr>
          <p:cNvPr id="183" name="Picture 7" descr="bettencourt_logo_draft_3"/>
          <p:cNvPicPr/>
          <p:nvPr/>
        </p:nvPicPr>
        <p:blipFill>
          <a:blip r:embed="rId2"/>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5" descr="bettencourt_logo_draft"/>
          <p:cNvPicPr/>
          <p:nvPr/>
        </p:nvPicPr>
        <p:blipFill>
          <a:blip r:embed="rId1"/>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Picture 8" descr="bettencourt_finallogo"/>
          <p:cNvPicPr/>
          <p:nvPr/>
        </p:nvPicPr>
        <p:blipFill>
          <a:blip r:embed="rId1"/>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Picture 4" descr="bettencourt_finallogo"/>
          <p:cNvPicPr/>
          <p:nvPr/>
        </p:nvPicPr>
        <p:blipFill>
          <a:blip r:embed="rId1"/>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laws"/>
          <p:cNvPicPr/>
          <p:nvPr/>
        </p:nvPicPr>
        <p:blipFill>
          <a:blip r:embed="rId1"/>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Mind-map"/>
          <p:cNvPicPr/>
          <p:nvPr/>
        </p:nvPicPr>
        <p:blipFill>
          <a:blip r:embed="rId1"/>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llustrator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bonus marksif the final presentation requires the uses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523880"/>
            <a:ext cx="8229600" cy="469440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otion for Mr. Leeson’s summer soccer team</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r. Shabel’s organization that is fundraising to build schools in Leesoto (maybe two groups)</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otional material for Ridgemont to be used at the feeder schools to improve our image- Mrs. Makris (lead) ..and to improve the pride around the school</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and Literacy- Run a program that makes reading cool and work on improving the library web- including Word of the Week(Mrs. McKeague)</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ndraising for Lesotho including promoting the talent show (developing an awareness about our sister school and the work we do for the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anchor="t">
            <a:normAutofit/>
          </a:bodyPr>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shayna</cp:lastModifiedBy>
  <dcterms:modified xsi:type="dcterms:W3CDTF">2010-03-09T03:52:44Z</dcterms:modified>
  <cp:revision>33</cp:revision>
  <dc:subject/>
  <dc:title>DESIGN PROCESS</dc:title>
</cp:coreProperties>
</file>