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84B40-6D2D-4240-8B12-9124D4833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13F1E-49A9-4256-9C91-3B7E78A7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690E9-414B-43F6-B8F8-4D5D0EF6B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1B116-A080-4F76-8930-B7433C7A5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0E37C-7D67-4C8F-9539-47FCBD154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B838E-4462-4562-B35D-8DAEA5B97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1F562-BA7C-426C-BC13-A3F84C079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4047A-CDAB-4879-900C-9E47970B8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AB85B-6128-48AE-A701-800973F94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EF0D9-F851-4E3F-B98C-0162F0C1C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1893E-7464-41D9-8102-3F656E10F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DA87F-0959-41FE-8E6A-32E0B4A10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3B884-E007-4BAC-B9B9-E80263A0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8A406-247B-449A-8136-FC367CFA7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42547-E24A-42E3-9BCE-31A13988F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8BBBD-7F41-48C3-A60F-1638284E9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E28CD-6A18-4069-8426-F0B391203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4AE339-4919-4658-AE92-EEE52A99C3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13307-B660-486E-BCAD-377F09D67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B0456-A696-40F8-9979-E9E0F981B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1D850-651F-494E-BBBA-B24001EA9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A1760-5028-4A15-8E96-0D0060D27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31EFF-360A-4C22-A502-1C8320954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781DC-3AD0-4804-9B08-5470A4E08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F69DB-44C7-40A3-A857-F231474AA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B0472-666A-4510-B982-B4B97057C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CE5FD-7308-4A13-9DB2-C3449D978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C4083-5073-4215-9646-2686CC1A3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1872B-18D6-4E54-9EA0-60E9A18B1F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4F3BF5-C0ED-417C-81AB-E608EA82BE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18176-4126-4D2D-995C-BB33552D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5CEFB-745F-4B5A-9B2F-88E350777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CD81-C850-4E33-9E72-F78BD623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DCA6-BF18-445A-92B0-B79A06BCD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1A204-7B8A-4401-9155-EB5DD9F4F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DC78-6679-423C-A585-E91294505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69FF-B859-41F3-82E9-8ABE1402D92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E392-C150-4076-9A42-8A92745DC7C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3733-55DE-44DB-A41B-360331372E0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Guru_Mindmap.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ettencourtwood.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individually pick one of the following:</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01200" indent="-231120">
              <a:spcBef>
                <a:spcPts val="550"/>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2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sara-mind-map"/>
          <p:cNvPicPr/>
          <p:nvPr/>
        </p:nvPicPr>
        <p:blipFill>
          <a:blip r:embed="rId1"/>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1"/>
          </p:cNvPr>
          <p:cNvPicPr/>
          <p:nvPr/>
        </p:nvPicPr>
        <p:blipFill>
          <a:blip r:embed="rId2"/>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Picture 4" descr="mindmapguidlines"/>
          <p:cNvPicPr/>
          <p:nvPr/>
        </p:nvPicPr>
        <p:blipFill>
          <a:blip r:embed="rId1"/>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nd connectio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Use of lines, colours, arrows, and branches can be used to indicate relationships between the ideas generated the mind map.</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200" spc="-1" strike="noStrike">
              <a:solidFill>
                <a:srgbClr val="000000"/>
              </a:solidFill>
              <a:latin typeface="Constantia"/>
            </a:endParaRPr>
          </a:p>
        </p:txBody>
      </p:sp>
      <p:pic>
        <p:nvPicPr>
          <p:cNvPr id="170" name="Picture 4" descr="mindmap_2"/>
          <p:cNvPicPr/>
          <p:nvPr/>
        </p:nvPicPr>
        <p:blipFill>
          <a:blip r:embed="rId1"/>
          <a:stretch/>
        </p:blipFill>
        <p:spPr>
          <a:xfrm>
            <a:off x="228600" y="533520"/>
            <a:ext cx="4186080" cy="3267000"/>
          </a:xfrm>
          <a:prstGeom prst="rect">
            <a:avLst/>
          </a:prstGeom>
          <a:ln w="0">
            <a:noFill/>
          </a:ln>
        </p:spPr>
      </p:pic>
      <p:pic>
        <p:nvPicPr>
          <p:cNvPr id="171" name="Picture 6" descr="Example Mind Map"/>
          <p:cNvPicPr/>
          <p:nvPr/>
        </p:nvPicPr>
        <p:blipFill>
          <a:blip r:embed="rId2"/>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whatyoucando"/>
          <p:cNvPicPr/>
          <p:nvPr/>
        </p:nvPicPr>
        <p:blipFill>
          <a:blip r:embed="rId1"/>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1"/>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Picture 9" descr="bettencourt_logo_draft_1"/>
          <p:cNvPicPr/>
          <p:nvPr/>
        </p:nvPicPr>
        <p:blipFill>
          <a:blip r:embed="rId1"/>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bettencourt_logo_brainstroming"/>
          <p:cNvPicPr/>
          <p:nvPr/>
        </p:nvPicPr>
        <p:blipFill>
          <a:blip r:embed="rId1"/>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Picture 5" descr="bettencourt_logo_draft_2"/>
          <p:cNvPicPr/>
          <p:nvPr/>
        </p:nvPicPr>
        <p:blipFill>
          <a:blip r:embed="rId1"/>
          <a:stretch/>
        </p:blipFill>
        <p:spPr>
          <a:xfrm>
            <a:off x="228600" y="771480"/>
            <a:ext cx="4762440" cy="6086520"/>
          </a:xfrm>
          <a:prstGeom prst="rect">
            <a:avLst/>
          </a:prstGeom>
          <a:ln w="0">
            <a:noFill/>
          </a:ln>
        </p:spPr>
      </p:pic>
      <p:pic>
        <p:nvPicPr>
          <p:cNvPr id="183" name="Picture 7" descr="bettencourt_logo_draft_3"/>
          <p:cNvPicPr/>
          <p:nvPr/>
        </p:nvPicPr>
        <p:blipFill>
          <a:blip r:embed="rId2"/>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bettencourt_logo_draft"/>
          <p:cNvPicPr/>
          <p:nvPr/>
        </p:nvPicPr>
        <p:blipFill>
          <a:blip r:embed="rId1"/>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Picture 8" descr="bettencourt_finallogo"/>
          <p:cNvPicPr/>
          <p:nvPr/>
        </p:nvPicPr>
        <p:blipFill>
          <a:blip r:embed="rId1"/>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Picture 4" descr="bettencourt_finallogo"/>
          <p:cNvPicPr/>
          <p:nvPr/>
        </p:nvPicPr>
        <p:blipFill>
          <a:blip r:embed="rId1"/>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laws"/>
          <p:cNvPicPr/>
          <p:nvPr/>
        </p:nvPicPr>
        <p:blipFill>
          <a:blip r:embed="rId1"/>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Mind-map"/>
          <p:cNvPicPr/>
          <p:nvPr/>
        </p:nvPicPr>
        <p:blipFill>
          <a:blip r:embed="rId1"/>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llustrator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bonus marksif the final presentation requires the uses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523880"/>
            <a:ext cx="8229600" cy="469440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 for Mr. Leeson’s summer soccer team</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r. Shabel’s organization that is fundraising to build schools in Leesoto (maybe two group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al material for Ridgemont to be used at the feeder schools to improve our image- Mrs. Makris (lead) ..and to improve the pride around the school</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and Literacy- Run a program that makes reading cool and work on improving the library web- including Word of the Week(Mrs. McKeague)</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ndraising for Lesotho including promoting the talent show (developing an awareness about our sister school and the work we do for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anchor="t">
            <a:normAutofit/>
          </a:bodyPr>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shayna</cp:lastModifiedBy>
  <dcterms:modified xsi:type="dcterms:W3CDTF">2010-03-09T03:52:44Z</dcterms:modified>
  <cp:revision>33</cp:revision>
  <dc:subject/>
  <dc:title>DESIGN PROCESS</dc:title>
</cp:coreProperties>
</file>